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4BE7A-F44B-400D-A126-127DDDC9ED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528FF-E7F5-4E43-87AF-CBF7E4D5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3D6DFA-3A9F-440A-A451-1543DB02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3766A7-1C87-4753-86EF-068782B0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BE0B1C-4745-4266-B0E7-5B984C0D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1DCF11-CF64-423F-A02E-D7CC5AB8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F08181-273A-479A-95D1-6AD111E6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7EA4B6-4829-4BD9-BDA0-C8B121D7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692C9D-5265-44F9-9F57-76CA465E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1995A7-0D2C-49BC-8DAD-DC47B211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16659C-C533-4EEE-819E-B2601749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7EACDE-A790-4C6A-B6AD-5054CA76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088FA-31C8-40A8-8C45-40DE4196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BA0A1A-1172-4D24-A7EF-A9893779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5B5D3-DC65-471D-BF39-79DCF5A5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F17A30-792B-4C78-BAD0-3F956771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35EA9F-FB0F-48DC-8743-F03A7A65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5B18AD-1C16-4679-985D-A5D0DBEE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D29FF8-F677-4E97-936E-2AAB8F5C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6B9025-E60B-4263-BB99-E1FEB268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1DC4F5-4B9F-4645-B956-1B100FC8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557821-FB8C-472B-B272-70ABF156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51FE8C-B3A2-4240-B95E-15A04107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D6B50-5716-47C7-870B-9F7C3ACA8A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0DDFAA-90D3-4567-AA5B-C8A88749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39FC60-869F-45D5-A38C-57B84E6E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CC51C9-112C-4C2F-8A6C-9DE6FA5A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939B27-6001-4759-BC6F-BE82CFBE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692C62-0454-41DD-8D1A-78DB5884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398687-260B-4D52-9817-DA657AB5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FBCEE0-7288-4401-97D1-78382285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B9FC14-45B3-4612-8BD8-A971AF2C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51E58A-8F8D-452B-9BF3-CFEBE326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7CD187-058B-4A54-A575-DEEF89C9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14558-6BB4-478A-BEB0-4EDBD67A70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169C1F-F390-4D14-9FF6-D904FD2E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28DAC7-2351-46B2-A765-50C36BFD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A792DF-D721-4D41-826D-6F7A9544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DF3BFB-F67C-420F-80FD-A73D7EBC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3180CE-BB42-4C6A-B3B0-9102DB40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9A02A6-A640-4989-B931-59A91DD9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447567-7B98-466D-B2CA-DF4242F1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AEE0A3-D70D-4267-AE1F-19CCAB6B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1363BF-8731-457F-9A8E-9AE2A02C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FD2DA7-4BBC-4B7B-8AD8-AB259AD9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954A3-A527-498C-82FE-C1EF7318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0EC9E7-EA31-4775-8946-7BFA0CDE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C1BF0A-5FE8-4412-A18F-6274CBD3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21A20B-057E-45D3-86A8-6ABE3609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94152F-7D32-45C9-BE06-03C85427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BD0BBDC-0D85-4C2E-BA44-1D052240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41CAEE-3F3E-4195-8214-979B0152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BAEA12-7C71-4490-A8FC-45D2C773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E46772-0256-4F9F-92DE-8012EB74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333307-0CBB-4E41-8170-5D5F9427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B2243A-5644-4456-AE39-7164CB08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B0156-00B3-49D9-A849-F1431434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8322AB-942D-426C-B429-95A7BC1A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B0FBE7-FECF-4914-9F17-C377F5E5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F590EB-A893-427B-93F1-3A165C8D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8B2829-C821-4DB6-BA10-E8E06791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37482D-5B8F-476E-8DF7-E1F0635D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A178C8-CBC9-49C2-A7C4-96E414B7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F3FC6B-4CE1-42AB-B00F-B1FFCDAA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B18403F-76DF-49FC-B899-EA5342FC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D4028E2-22A4-45E5-A075-BA05CA63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D321ADD-4A0B-4889-B742-3B7DBE2B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55402-74A9-4FF2-A2FB-70039A73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C454AE3-829C-470C-809C-9FDBB7F2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303005A-F101-4A52-924E-B0538E83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D6D9FA-F9F6-472D-81F6-4BF76420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5B1C1EC-ED71-4B26-90C6-5F67962A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6C8DE80-EE46-4CF2-9115-00849643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B511BAE-B82E-4E84-B4F3-E9A36B7E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6F64AF1-D0E9-4786-AEDE-8BCDE53C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BDE6A64-C44B-45F0-BC26-579B97DD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19BB860-A3D3-4EED-9D15-2CFD3389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847EDAC-A8D8-4C04-81B3-02A899C8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B11FD-F443-4791-8CE0-817AC42A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E71D322-3226-4E6E-BEE6-E2912502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DB72045-BA0A-45FD-A498-25766EA0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DE3C6B3-75F1-4E53-81D4-8A6988CA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1B298B2-3859-4E98-923E-91F8122C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CD828EB-64BE-47CE-946B-FB8CD644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1E59567-DCB1-442D-A552-3A1B5475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E1FE783-EB9F-40AF-A132-FEA87FE0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A91AF49-D9BD-48D7-BBF7-558C31B0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65A2080-7980-4AF0-A456-12B034F0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224065E-1AB2-4DFC-AFF5-77C50173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67A21-3809-4521-A329-05469A6A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35DFB5F-56F4-4556-8FB6-2143DE53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9B8E101-6373-4509-8523-A23A841F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CC6B6AA-BBCD-43E7-9EED-9C5AB164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B06B9D9-D02F-4987-86FB-1E232BFE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8C492BE-B782-4091-B9F2-D64F8D98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C422652-45A0-45FB-AB70-4D4CA5FC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AEF5551-C6DE-491B-BAA5-9B132D0C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6F09A8F-FA23-451B-91DA-D6950D03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8D2AED3-E65F-40D3-99D6-57BF8755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796DF45-271D-4535-BE17-2E8E42AB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B6176-B54A-4C4A-B1D9-C00266BC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3F5C8DA-76BD-4243-ABBB-1A5707D2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5FFF2CB-CBD2-42D2-826B-E75A131B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7F58577-A041-48AB-BADB-D1243DD4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E7621-E232-4EBD-BFC1-372B4E44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8FCDC-CE98-454A-A317-87FFC9F5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0EF2B38-9C5A-4212-BF49-B129BF8D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CF2E757-5624-41DB-A5C1-EE2F96D9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B347E2E-079A-4FBE-A414-9C425B13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4F3FE2E-4682-4016-A7A0-3DE13C6A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B7C6A0A-1307-4507-AF9B-B755CDB8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5E32F-B82C-468A-9AA2-3C9FCE37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08BCF5D-D87B-44CB-9AE4-044D587E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95AAA71-536D-4701-8CAF-AFF3499F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C086A0F-36CC-4330-931F-E875C7F5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6E34885-8328-497C-8BF9-C1B69B35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2C24005-F4E5-4B8F-95D5-D74ABEA2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0049E79-369E-444F-A952-53788117F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67182C4-5F6F-494E-BA3A-0EAF0EEE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0213ADE-22F0-49AC-A3A5-5BCF0372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A9FEC33-F596-4AB3-837F-6BADB620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F285249-7A57-4ECC-9AE8-D400AA19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2B1D3-FFDB-4172-B359-8D5A6ACB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42C056E-AC55-4081-A0CD-49416566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A2C1DC6-BD9A-4C56-B87C-35F07394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27F6FAA-526C-42EB-8F28-FC3BF27C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4A5B385-31E4-474D-9B8E-0A0A769F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6F46BBF-1B10-4743-ACBE-098D8A7D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3CB9995-2CA6-4D83-85D8-61FA4993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2A55BAE-5643-40C9-A78C-F748B877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FD52AF5-A1D6-4014-8235-25D0EEBB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CD76ED3-50D3-45C9-BC7D-7F00C896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2CF5449-E509-4CD2-A22E-5BFB043C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890AA-AEC5-4996-A5F7-4E8D84AA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033DAD9-46BC-45DE-B3CC-F44284AA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CC2A619-72AF-4A45-A71D-AAFF7605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A33B6F6-1322-4337-9206-D677D5D7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E1F2AE8-B8F1-43A8-91BC-500B8DE5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2AF0F0D-3549-4A52-9A9B-71F948A9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E3C4BDD-08B9-410D-8FA5-8A7C379F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D5492D4-E8C9-4EBD-A66F-90FDECE6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83B73D5-6434-4CD3-B005-7E3BC045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59E608E-78C4-49B5-84DB-C491B867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D802EF8-9CBA-49B0-8D96-881174AB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39682-4290-455F-BC78-841A0BA563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0002C48-CF31-48D1-877F-182D2961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74B9B5E-FCE9-4621-8C0D-D3148628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819D9F6-326E-45DE-BB70-CF086870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C6E617A-550F-4A57-8D7C-EE86F76F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594028C-8D95-4984-A5CE-6162AB4D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997D8CA-B0DD-4821-89F3-C394D8A5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458AA35-2F00-4239-8BF0-5C57026F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4C439A4-74B6-40C6-BF56-51A30B90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229CCA4-CEE0-45F0-8044-1C5BB7E0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25BE3A8-DFC2-4F4F-A6CB-23126E63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99EC6F-7434-41F6-8CD8-33DC9EE2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4D67FBB-E029-4235-BBCC-30DA627D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8450094-01FF-4C87-BC37-C0AA2862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9910DFF-4A99-46DD-82C0-3615828D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EF52E3C-346A-488D-A98C-CAFD0193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305EFAD-EB38-4678-BDDA-C6DB2742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8CC791B-6BF4-48DF-995F-5AE72D48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D3AC9BD-B29A-498F-983D-6DC95C2B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82741F8-149F-4DA9-AD8C-CDBF9555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960F8F0-9DDE-4EF9-B96B-E88CCDF5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AFACF75-14DA-4918-8C1F-934BD3F6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B0F746-19A2-437B-9254-B47BA924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DD28017-790B-471B-A4F5-0B5B22E8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E5310CE-E7A3-4B5D-8AED-72CF7A9D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63BC6C8-5C31-41F4-BF45-7A5CA663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B584F1D-E4D6-43EF-AF09-C6E0D893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5CD5D6F-0560-4297-A31B-57DE8553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A7476D4-7BB7-443C-83BB-A10EAA34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5ED9DEB-B2F5-466F-A2C6-C725530D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864E7BC-AC6D-43BD-A569-1265C44A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C74EEB8-264A-4294-B9CE-E20179EF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6BD957D-3BC2-47F4-8C3C-98A8D029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068B84-1358-401F-805A-4B55318E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968F2E8-523C-44FB-87D4-D2AAA170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FE9E649-FC77-4E0E-8F8E-A42C289E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66E3E7C-BDE3-41ED-95DF-A9B6BF08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85FED36-0830-40BC-BDF6-674B10A2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B718EE2-9B16-49CC-AD72-313E9ED8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D994253-A66A-46AC-9224-A34B5A93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3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4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63EDBCF-8813-4F6D-8B84-1D530930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04F5060-616F-4B5C-93EB-02A33E1C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A2B7C1C-C8AE-446B-8BB1-59F79CF2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BDE3B2D-8E1B-401B-8F95-069819F6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2EFDE8-2570-4965-920C-76BE2E81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CEEA40F-5771-413A-850F-CD3FFB55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CB5615E-0626-46A7-A598-E46CB94A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45EBC1E-E3F0-480D-8F05-B108F75D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831171C-A6EE-4DF8-A13D-D6B9BCF2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19110C8-6D35-424D-85F7-D0FD7350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FCC9FE5-3CF0-4CFB-A277-9C97059E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B10D1C8-7250-451D-8CBC-1F971CF7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F4DA516-3A83-49BD-8227-A9F9BE63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B2AFE72-9EF4-404A-AA82-D2868EFC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7646DD3-9EE9-4CD3-815A-2BE5060F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BA1501-4822-46AB-9CC7-773EC137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DB32CC3-B250-4C87-A14D-708F22FB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1922597-48DB-4A61-BEE9-791FEE41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46DF658-9C5F-40A7-AA1C-F99E99EF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5E7F4D9-A463-4051-A5E1-FC18F979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60F07C8-6577-4580-A51F-1328A652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20069B0-728D-4784-BE8D-26653167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FFEE3FC-D37E-4E04-875A-B0CF358E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DBEA657-3643-4A5C-9940-A93CF8EB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198E2FC-4EBD-4EF4-96C8-227B2348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57DF852-7F9C-49D7-80F9-94521848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18BBC-C67F-48CC-A0D9-E5FC04DC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F8F119-9425-437F-82F6-5E47D56F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D564BCF-5A38-4AA3-B031-F38055F4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1E276D8-B0E8-4E01-A3B3-C2073392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17F85D2-12EF-4244-9DA8-D3F466F8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8AB271C-7A9A-4145-A6C8-ED728807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3884712-5D6D-4D00-AF06-CAB86817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2AE15D8-4F51-456D-9D78-A05CD2C5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AE6A717-77A0-4554-B7F8-C6E775BE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6869C5E-7369-46C9-AA00-B4FAF6F3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E1AD3F9-40CF-498C-9DF5-83D5F19F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9813883-C849-49AB-B887-F46F88AB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4146C2-F192-4634-B5A1-369E55F6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2D3EE2D-A5B4-4219-975A-4CA073C1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BFBEA97-4E3E-4F7C-AE4F-8810C851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28879FB-BAD0-41A3-B6B9-9F18CB05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74A9364-6999-48E0-9924-F50ABC04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54F651F-D08F-4796-9B79-BFA43344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F4FF75E-F8FE-4B73-A05E-5277EF33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83C75B5-DE85-4FDA-90DD-2DBC195C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5E1F773-57F2-4676-AB8E-0B28BBF8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A3EA2E5-A268-495E-86B8-FAC8E9C3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C0DD560-2400-4A9B-8018-02CDEBBF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B4AA70-8481-4883-A6B0-17C50FD0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C3C3E01-A6DF-4796-81E2-532C9DA5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07EB1CE-70D9-49C7-90A3-AF53EA03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12C0FC4-B14B-4F4E-B652-06BCFF7A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67DCFA1-CE5A-4F04-8CCD-6B5B998C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8486C23-24E9-4047-9A38-BD1BFC32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CF9380F-C0DE-4946-B528-8EFC61BA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3C21054-C10D-450F-9F2B-8C8EB6C2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605F9F6-5663-4236-83A0-65F02635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AE59D77-57A5-44EB-9C34-599CDB45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99EB7BB-B815-489C-AD30-9EA31191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829B46-1018-4CB1-890C-4919C9EE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EB3D9B3-FFF0-402C-86C9-DA0CCB4F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779AB18-42F4-41B5-883B-1982996D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315FC33-D206-42BD-9864-A8400EB9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BCD2380-038B-4D94-AB03-64357FE6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5887EA6-12BE-4387-BB20-9F0237AB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AB8282F-B02D-4439-B9A7-0BFFEA10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ECB28C2-02FD-4A9D-A73F-192E6D91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6E04C4-2ABC-4A9B-AEE1-C10B9A14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B310E9-C47D-4D51-9E46-4C590583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44858D-38BC-4650-8D16-81D378003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58236-931D-4F92-AFF3-4EDD5501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2B7A23-B4EC-4340-B64D-53464610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CA1F9-EDA7-4698-8BA9-ED2C049D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F69DE4-6903-4C59-9D5D-CB5E14E6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567A99-4AEC-4A8C-BB6E-0FE6130B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1104A9-F3AC-4855-B08A-897CA897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36C1E4-EFA7-42AA-82F4-74EC7192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F5BE59-9A9A-4049-A191-356F8E92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83A49A-763D-4327-B739-56E80C4D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479F86-ED6D-48B2-9217-4A84424B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EFF521-FE21-4983-891E-0E88A901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E5C8AB-9E1A-41D3-83AF-64601D0C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49D94E-BCD6-477A-AC74-192A8825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D3914-8DE1-42AA-883F-6B58F880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36F501-E3FB-474B-A756-FE9C8558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A4E49F-7655-43BC-B3A4-D48AA155C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609DC6-1D39-42C3-BF96-70DBC804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5FC443-CF07-44CA-AAC0-45964431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2FF61A-5B6D-4466-8EF4-141BA37D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756D1C-8175-4B53-8797-EAEEFFE4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72CC74-4DA6-45A1-BFA4-108243F6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8329FE-8B3D-41CD-A49A-52E78006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5CE28D-167B-4913-BEBC-18EF102B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B37A4E-0796-4CDA-8065-8689CA1A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A4A13-D815-4333-9E0E-C1C722D6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F9AA44-12C3-4AAF-837D-E4CAEC56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566C6B-9BDD-4369-B254-8430C6421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438CFC-E737-4BF3-B749-88B4758B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63572D-8AD6-4F50-AF86-5266C35E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13954B-2B48-4D2B-AF01-20293AC7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F1D75F-F1F1-442F-8647-D27F0F06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B06023-4A93-42BC-A85A-25D88359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1CEF81-B4AE-47EE-8FB3-77F7C36C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58D1C7-431B-419C-AADD-E29300CD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A83C79-6538-4D93-AA2A-F2F179E6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051D2-C6EC-4FC4-8B1C-CDF03F25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E27D5B-018A-4697-A375-6F4A2ED7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52A8DA-08E3-478E-8418-8CD4F91C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3A6021-C954-41FF-A009-2AA53FF7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2B541F-235D-4B50-84B3-2C0FE139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DCC1CF-4217-4E20-B7CD-786EEC3C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C48CA3-EEF0-40A6-A1D5-0DADB8F2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CC3BB7-4AD2-43F8-8D9D-E75B7C7C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2B4238-E013-4F1B-81C9-76054CE0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E947A1-B783-42F8-8C4B-6F3180B5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A76D9C-C361-4F06-8170-762EF0AF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6219D-E6D1-48FE-8D05-00E3B1FC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5852FD-4799-465B-9FA8-DA275BFA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2EA276-2D78-49B2-9898-5A89D138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9C0FAC-1AB6-44A7-9E50-AD01E69D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6C521F-3D47-4AFA-B63D-86BB3EE8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7B8DEC-206F-41DD-BA07-51E989A9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A9CCB5-65DD-40BD-A6AF-90ACBF7F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02619B-0793-4647-9793-D789DDF8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178A2F-A42D-4A52-9F66-83AEC1D9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DCADFD-02B1-4FEE-BB75-C96850EF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4D30A6-6070-472D-88ED-90709CB8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93.xml"/><Relationship Id="rId9" Type="http://schemas.openxmlformats.org/officeDocument/2006/relationships/slideLayout" Target="../slideLayouts/slideLayout194.xml"/><Relationship Id="rId10" Type="http://schemas.openxmlformats.org/officeDocument/2006/relationships/slideLayout" Target="../slideLayouts/slideLayout195.xml"/><Relationship Id="rId11" Type="http://schemas.openxmlformats.org/officeDocument/2006/relationships/slideLayout" Target="../slideLayouts/slideLayout196.xml"/><Relationship Id="rId12" Type="http://schemas.openxmlformats.org/officeDocument/2006/relationships/slideLayout" Target="../slideLayouts/slideLayout197.xml"/><Relationship Id="rId13" Type="http://schemas.openxmlformats.org/officeDocument/2006/relationships/slideLayout" Target="../slideLayouts/slideLayout198.xml"/><Relationship Id="rId14" Type="http://schemas.openxmlformats.org/officeDocument/2006/relationships/slideLayout" Target="../slideLayouts/slideLayout199.xml"/><Relationship Id="rId15" Type="http://schemas.openxmlformats.org/officeDocument/2006/relationships/slideLayout" Target="../slideLayouts/slideLayout200.xml"/><Relationship Id="rId16" Type="http://schemas.openxmlformats.org/officeDocument/2006/relationships/slideLayout" Target="../slideLayouts/slideLayout201.xml"/><Relationship Id="rId17" Type="http://schemas.openxmlformats.org/officeDocument/2006/relationships/slideLayout" Target="../slideLayouts/slideLayout202.xml"/><Relationship Id="rId18" Type="http://schemas.openxmlformats.org/officeDocument/2006/relationships/slideLayout" Target="../slideLayouts/slideLayout203.xml"/><Relationship Id="rId19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EDE3-761A-4D0D-B878-A3CB22E6C309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214D-C0C8-411F-B9A8-5BC1AD18DA0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7"/>
          <p:cNvSpPr/>
          <p:nvPr/>
        </p:nvSpPr>
        <p:spPr>
          <a:xfrm>
            <a:off x="8221680" y="6165720"/>
            <a:ext cx="64764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8F3B-2A2A-46B6-9BD7-30398A3F8C8D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25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52F7-98B3-4729-BF77-1B4671B98745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FBD3-0465-4DAD-A5C3-16A019D45760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28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103E-1509-4790-8404-B8E9CA37E6C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2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F83A-693B-4312-9500-B0C6B5E5095E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1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F8AA-4A74-4357-AFD1-0B833BE0D65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2C7D-4A53-47D3-BB88-36C5677B7B48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4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B3FA-43CA-4754-9461-526C20E1AC5D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7"/>
          <p:cNvSpPr/>
          <p:nvPr/>
        </p:nvSpPr>
        <p:spPr>
          <a:xfrm>
            <a:off x="8221680" y="6165720"/>
            <a:ext cx="64764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57E2-91B7-4815-BC11-B0E29022DED3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7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29D5-EA34-485F-85A9-D2DDE998330D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7"/>
          <p:cNvSpPr/>
          <p:nvPr/>
        </p:nvSpPr>
        <p:spPr>
          <a:xfrm>
            <a:off x="8221680" y="6165720"/>
            <a:ext cx="64764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3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48AD-DB40-405C-B7DC-6762CC7AEF45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3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5887-9B31-4E68-A554-4D8CB420C29D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B401-371F-4CB8-82C0-7045CACA7529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5701-C0CB-4F19-BF1E-AC5F7B2D8820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735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737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39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0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1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2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3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4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5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6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7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8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9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0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1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2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3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4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5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6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7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8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9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0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1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2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3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4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5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6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7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8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9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0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1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2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3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4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5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6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7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8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8"/>
    <p:sldLayoutId id="2147483858" r:id="rId9"/>
    <p:sldLayoutId id="2147483859" r:id="rId10"/>
    <p:sldLayoutId id="2147483860" r:id="rId11"/>
    <p:sldLayoutId id="2147483861" r:id="rId12"/>
    <p:sldLayoutId id="2147483862" r:id="rId13"/>
    <p:sldLayoutId id="2147483863" r:id="rId14"/>
    <p:sldLayoutId id="2147483864" r:id="rId15"/>
    <p:sldLayoutId id="2147483865" r:id="rId16"/>
    <p:sldLayoutId id="2147483866" r:id="rId17"/>
    <p:sldLayoutId id="2147483867" r:id="rId18"/>
    <p:sldLayoutId id="2147483868" r:id="rId19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C7D5-C017-4AF8-8577-75BB875F47D0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4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4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1BF8-CC9D-4E07-A4FD-37CA75369A0B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4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07E4-C41D-47BA-B998-148BD0AB3CB0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4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49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36B9-E8E5-407E-A195-C8A8C8914CB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6369-B100-41A1-8DBD-F0B278CD9BBF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A15C-B991-4816-8FE0-F85CF614FAF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dt" idx="5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D7F7-471B-4EC5-91EE-E6F7446BE520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ftr" idx="5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sldNum" idx="5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C13D-8C11-49D1-8543-04D6E7C8C95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dt" idx="5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59E3-97D7-4934-8212-D892DF38A192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 type="ftr" idx="5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 type="sldNum" idx="55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AC9F-25DC-4B7A-AB23-D112F9ADEAD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dt" idx="5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6003-8172-47C3-AB6B-A2ABF83230EB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 type="ftr" idx="5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 type="sldNum" idx="58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2C8D-D3FA-4484-B863-415E5CBF11D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 type="dt" idx="5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6AB7-8488-4EA5-A548-E223FB3560C4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 type="ftr" idx="6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 type="sldNum" idx="61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E7F7-F2B0-44CC-8C19-2342A43715E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 type="dt" idx="6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D513-9846-456B-8AC4-A7DFE4D31E24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 type="ftr" idx="6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 type="sldNum" idx="64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924F-4F0A-4367-9679-95C3E3409C6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 type="dt" idx="6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5DF4-03C2-4175-B293-6C81EB404675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 type="ftr" idx="6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 type="sldNum" idx="67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A987-2D35-4F28-AA6C-C863E0D0964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1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 type="dt" idx="6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AB1D-0700-48A7-8533-049501C0062D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 type="ftr" idx="6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 type="sldNum" idx="7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12F7-AE44-42AD-BDA5-27BBAE0935C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0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 type="dt" idx="7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E0B5-A386-4272-85E7-B505209C965B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 type="ftr" idx="7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 type="sldNum" idx="73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1DB4-F64C-4F05-B90D-02EDB2C3252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dt" idx="7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1EDF-BB48-46FA-AF66-8561E8CEE1A4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 type="ftr" idx="7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 type="sldNum" idx="7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8413-83A7-4061-8AE6-6F25F58B5A5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56EC-B11D-4C6B-B5A5-CCFD8B48F718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DFA3-5EAE-41E0-88F1-49E44D3B540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28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130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2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4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5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6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7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8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9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0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1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2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3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4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5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6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7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8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9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0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1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2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3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4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5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6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7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8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9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0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1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2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3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4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5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6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7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8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9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8221680" y="6165720"/>
            <a:ext cx="64764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71EA-D484-4C12-AD0D-5E5A738F778B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C8B5-D8A3-4EB7-9A0C-5DC096BF0478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7"/>
          <p:cNvSpPr/>
          <p:nvPr/>
        </p:nvSpPr>
        <p:spPr>
          <a:xfrm>
            <a:off x="8221680" y="6165720"/>
            <a:ext cx="64764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F5DF-FCCC-4AEB-99D4-573F59DEC4BF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3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A0F9-3A72-4EDE-AD43-DC47993A29CD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7"/>
          <p:cNvSpPr/>
          <p:nvPr/>
        </p:nvSpPr>
        <p:spPr>
          <a:xfrm>
            <a:off x="8221680" y="6165720"/>
            <a:ext cx="64764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2DF7-42C9-4387-8373-67F777ADA339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1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1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6DA4-BA32-439C-8BFB-F07AB452A466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7"/>
          <p:cNvSpPr/>
          <p:nvPr/>
        </p:nvSpPr>
        <p:spPr>
          <a:xfrm>
            <a:off x="8221680" y="6165720"/>
            <a:ext cx="64764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1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34B0-52D6-41CB-ABC0-E2B2AA732F6A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19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588F-3C1B-41AA-8A8E-87E7F212D09B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7"/>
          <p:cNvSpPr/>
          <p:nvPr/>
        </p:nvSpPr>
        <p:spPr>
          <a:xfrm>
            <a:off x="8221680" y="6165720"/>
            <a:ext cx="64764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FFEC-C95E-4D21-B0C6-740C7D97FBCD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A7BF-B99A-45CB-96B2-A09E089692C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0" name="Group 159"/>
          <p:cNvGrpSpPr/>
          <p:nvPr/>
        </p:nvGrpSpPr>
        <p:grpSpPr>
          <a:xfrm>
            <a:off x="900000" y="4684680"/>
            <a:ext cx="1717920" cy="1692360"/>
            <a:chOff x="900000" y="4684680"/>
            <a:chExt cx="1717920" cy="1692360"/>
          </a:xfrm>
        </p:grpSpPr>
        <p:sp>
          <p:nvSpPr>
            <p:cNvPr id="1291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92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93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94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95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96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297" name="Rectangle 2"/>
          <p:cNvSpPr/>
          <p:nvPr/>
        </p:nvSpPr>
        <p:spPr>
          <a:xfrm>
            <a:off x="0" y="0"/>
            <a:ext cx="305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298" name="Group 162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299" name="Picture 23" descr="dd"/>
            <p:cNvPicPr/>
            <p:nvPr/>
          </p:nvPicPr>
          <p:blipFill>
            <a:blip r:embed="rId1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0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1301" name="Picture 161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2" name="Picture 58" descr="D:\Documents and Settings\Nomjanns\My Documents\2013\Tx CI Approvals\Presentation Templates\Picture5.jpg"/>
          <p:cNvPicPr/>
          <p:nvPr/>
        </p:nvPicPr>
        <p:blipFill>
          <a:blip r:embed="rId3"/>
          <a:srcRect l="2670" t="0" r="0" b="0"/>
          <a:stretch/>
        </p:blipFill>
        <p:spPr>
          <a:xfrm>
            <a:off x="1258920" y="5245200"/>
            <a:ext cx="1440000" cy="631800"/>
          </a:xfrm>
          <a:prstGeom prst="rect">
            <a:avLst/>
          </a:prstGeom>
          <a:ln w="0">
            <a:noFill/>
          </a:ln>
        </p:spPr>
      </p:pic>
      <p:grpSp>
        <p:nvGrpSpPr>
          <p:cNvPr id="1303" name="Group 155"/>
          <p:cNvGrpSpPr/>
          <p:nvPr/>
        </p:nvGrpSpPr>
        <p:grpSpPr>
          <a:xfrm>
            <a:off x="257040" y="1201680"/>
            <a:ext cx="2482920" cy="2444760"/>
            <a:chOff x="257040" y="1201680"/>
            <a:chExt cx="2482920" cy="2444760"/>
          </a:xfrm>
        </p:grpSpPr>
        <p:sp>
          <p:nvSpPr>
            <p:cNvPr id="1304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05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06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07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08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309" name="Group 156"/>
          <p:cNvGrpSpPr/>
          <p:nvPr/>
        </p:nvGrpSpPr>
        <p:grpSpPr>
          <a:xfrm>
            <a:off x="171360" y="1201680"/>
            <a:ext cx="2643120" cy="2494080"/>
            <a:chOff x="171360" y="1201680"/>
            <a:chExt cx="2643120" cy="2494080"/>
          </a:xfrm>
        </p:grpSpPr>
        <p:sp>
          <p:nvSpPr>
            <p:cNvPr id="1310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11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12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313" name="Oval 102"/>
          <p:cNvSpPr/>
          <p:nvPr/>
        </p:nvSpPr>
        <p:spPr>
          <a:xfrm>
            <a:off x="436680" y="1362240"/>
            <a:ext cx="2162160" cy="21729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314" name="Group 146"/>
          <p:cNvGrpSpPr/>
          <p:nvPr/>
        </p:nvGrpSpPr>
        <p:grpSpPr>
          <a:xfrm>
            <a:off x="912960" y="620640"/>
            <a:ext cx="1284120" cy="1260720"/>
            <a:chOff x="912960" y="620640"/>
            <a:chExt cx="1284120" cy="1260720"/>
          </a:xfrm>
        </p:grpSpPr>
        <p:sp>
          <p:nvSpPr>
            <p:cNvPr id="1315" name="Oval 147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16" name="Oval 148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17" name="Oval 149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18" name="Oval 150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19" name="Oval 151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20" name="Oval 152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21" name="Oval 153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22" name="Oval 154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323" name="Oval 118"/>
          <p:cNvSpPr/>
          <p:nvPr/>
        </p:nvSpPr>
        <p:spPr>
          <a:xfrm>
            <a:off x="1004760" y="706320"/>
            <a:ext cx="1111320" cy="11131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324" name="Group 145"/>
          <p:cNvGrpSpPr/>
          <p:nvPr/>
        </p:nvGrpSpPr>
        <p:grpSpPr>
          <a:xfrm>
            <a:off x="863640" y="620640"/>
            <a:ext cx="1369800" cy="1284480"/>
            <a:chOff x="863640" y="620640"/>
            <a:chExt cx="1369800" cy="1284480"/>
          </a:xfrm>
        </p:grpSpPr>
        <p:sp>
          <p:nvSpPr>
            <p:cNvPr id="1325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26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27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328" name="Group 157"/>
          <p:cNvGrpSpPr/>
          <p:nvPr/>
        </p:nvGrpSpPr>
        <p:grpSpPr>
          <a:xfrm>
            <a:off x="331920" y="3090960"/>
            <a:ext cx="2074680" cy="2038320"/>
            <a:chOff x="331920" y="3090960"/>
            <a:chExt cx="2074680" cy="2038320"/>
          </a:xfrm>
        </p:grpSpPr>
        <p:sp>
          <p:nvSpPr>
            <p:cNvPr id="1329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0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1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2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3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4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335" name="Oval 128"/>
          <p:cNvSpPr/>
          <p:nvPr/>
        </p:nvSpPr>
        <p:spPr>
          <a:xfrm>
            <a:off x="482760" y="3227400"/>
            <a:ext cx="1801800" cy="18144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336" name="Group 158"/>
          <p:cNvGrpSpPr/>
          <p:nvPr/>
        </p:nvGrpSpPr>
        <p:grpSpPr>
          <a:xfrm>
            <a:off x="257040" y="3090960"/>
            <a:ext cx="2211480" cy="2087640"/>
            <a:chOff x="257040" y="3090960"/>
            <a:chExt cx="2211480" cy="2087640"/>
          </a:xfrm>
        </p:grpSpPr>
        <p:sp>
          <p:nvSpPr>
            <p:cNvPr id="1337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8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9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340" name="Group 160"/>
          <p:cNvGrpSpPr/>
          <p:nvPr/>
        </p:nvGrpSpPr>
        <p:grpSpPr>
          <a:xfrm>
            <a:off x="838080" y="4684680"/>
            <a:ext cx="1828800" cy="1728720"/>
            <a:chOff x="838080" y="4684680"/>
            <a:chExt cx="1828800" cy="1728720"/>
          </a:xfrm>
        </p:grpSpPr>
        <p:sp>
          <p:nvSpPr>
            <p:cNvPr id="1341" name="Oval 139"/>
            <p:cNvSpPr/>
            <p:nvPr/>
          </p:nvSpPr>
          <p:spPr>
            <a:xfrm>
              <a:off x="838080" y="4770360"/>
              <a:ext cx="18288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42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43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2916360" y="3921120"/>
            <a:ext cx="5532480" cy="81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ZA" sz="3200" spc="-1" strike="noStrike">
                <a:solidFill>
                  <a:srgbClr val="003896"/>
                </a:solidFill>
                <a:latin typeface="Arial"/>
              </a:rPr>
              <a:t>CLARIFICATION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SUPPLY AND DELIVER UNINHIBITED OR INHIBITED VIRGIN OIL</a:t>
            </a:r>
            <a:br>
              <a:rPr sz="2400"/>
            </a:br>
            <a:br>
              <a:rPr sz="2400"/>
            </a:br>
            <a:r>
              <a:rPr b="1" lang="en-ZA" sz="3200" spc="-1" strike="noStrike">
                <a:solidFill>
                  <a:srgbClr val="003896"/>
                </a:solidFill>
                <a:latin typeface="Arial"/>
              </a:rPr>
              <a:t>Presentation</a:t>
            </a:r>
            <a:br>
              <a:rPr sz="3200"/>
            </a:br>
            <a:br>
              <a:rPr sz="3200"/>
            </a:br>
            <a:r>
              <a:rPr b="1" lang="en-ZA" sz="3200" spc="-1" strike="noStrike">
                <a:solidFill>
                  <a:srgbClr val="003896"/>
                </a:solidFill>
                <a:latin typeface="Arial"/>
              </a:rPr>
              <a:t>Commercial</a:t>
            </a:r>
            <a:br>
              <a:rPr sz="1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Rectangle 2"/>
          <p:cNvSpPr/>
          <p:nvPr/>
        </p:nvSpPr>
        <p:spPr>
          <a:xfrm>
            <a:off x="3276720" y="5222880"/>
            <a:ext cx="55767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20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3896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896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896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1800" spc="-1" strike="noStrike">
                <a:solidFill>
                  <a:srgbClr val="83725b"/>
                </a:solidFill>
                <a:latin typeface="Arial"/>
              </a:rPr>
              <a:t>Date: 18/11/2022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ON S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436680" y="1052280"/>
            <a:ext cx="837864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896"/>
                </a:solidFill>
                <a:uFillTx/>
                <a:latin typeface="Arial"/>
              </a:rPr>
              <a:t>A Three (3) steps evaluation will be conducted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896"/>
                </a:solidFill>
                <a:latin typeface="Arial"/>
              </a:rPr>
              <a:t>1.Basic Compliance – Commercial Evaluation Requirements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896"/>
                </a:solidFill>
                <a:latin typeface="Arial"/>
              </a:rPr>
              <a:t>2.Functionality - Technical Evaluation Criteria overall 80% Threshold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896"/>
                </a:solidFill>
                <a:latin typeface="Arial"/>
              </a:rPr>
              <a:t>3.Prices and Preferences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8" name="Slide Number Placeholder 4"/>
          <p:cNvSpPr/>
          <p:nvPr/>
        </p:nvSpPr>
        <p:spPr>
          <a:xfrm>
            <a:off x="3795840" y="6453360"/>
            <a:ext cx="992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13D9-33E7-42A2-94C7-266DC3FF1849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"/>
          <p:cNvSpPr txBox="1"/>
          <p:nvPr/>
        </p:nvSpPr>
        <p:spPr>
          <a:xfrm>
            <a:off x="436680" y="1052280"/>
            <a:ext cx="837864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3896"/>
                </a:solidFill>
                <a:latin typeface="Arial"/>
              </a:rPr>
              <a:t>Contractual requirements are not evaluation criteria. They are required to be met and assessed after the evaluation and ranking of the tenders.</a:t>
            </a: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SDL&amp;I undertakings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Health and Safety compliance 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Environmental compliance 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Quality compliance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0" name="Slide Number Placeholder 4"/>
          <p:cNvSpPr/>
          <p:nvPr/>
        </p:nvSpPr>
        <p:spPr>
          <a:xfrm>
            <a:off x="3795840" y="6453360"/>
            <a:ext cx="992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2D3D-AFE1-42F1-A410-DAD2F3C881B7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CTUAL OBLIG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ANT TO 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CLOSING DATE AND TIME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REF: kzn048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2 COPIES PLUS USB 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3896"/>
                </a:solidFill>
                <a:latin typeface="Arial"/>
              </a:rPr>
              <a:t>Submission of the list of mandatory tender returnable documents as indicated in 1.3 Tender Returnables,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SDB4 must be signed and returned</a:t>
            </a: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Strikes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4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76E2-F4E4-474E-9688-6B24AD7112E5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30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5" name="Slide Number Placeholder 4"/>
          <p:cNvSpPr/>
          <p:nvPr/>
        </p:nvSpPr>
        <p:spPr>
          <a:xfrm>
            <a:off x="3795840" y="6453360"/>
            <a:ext cx="992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2756-58B4-4E4F-AC91-171E0E990785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32"/>
          <p:cNvSpPr/>
          <p:nvPr/>
        </p:nvSpPr>
        <p:spPr>
          <a:xfrm>
            <a:off x="1650960" y="0"/>
            <a:ext cx="1408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357" name="Group 88"/>
          <p:cNvGrpSpPr/>
          <p:nvPr/>
        </p:nvGrpSpPr>
        <p:grpSpPr>
          <a:xfrm>
            <a:off x="0" y="0"/>
            <a:ext cx="9148680" cy="6858000"/>
            <a:chOff x="0" y="0"/>
            <a:chExt cx="9148680" cy="6858000"/>
          </a:xfrm>
        </p:grpSpPr>
        <p:grpSp>
          <p:nvGrpSpPr>
            <p:cNvPr id="1358" name="Group 87"/>
            <p:cNvGrpSpPr/>
            <p:nvPr/>
          </p:nvGrpSpPr>
          <p:grpSpPr>
            <a:xfrm>
              <a:off x="0" y="0"/>
              <a:ext cx="8640720" cy="6858000"/>
              <a:chOff x="0" y="0"/>
              <a:chExt cx="8640720" cy="6858000"/>
            </a:xfrm>
          </p:grpSpPr>
          <p:pic>
            <p:nvPicPr>
              <p:cNvPr id="1359" name="Picture 3" descr="dd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82556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0" name="Picture 86" descr="logo small"/>
              <p:cNvPicPr/>
              <p:nvPr/>
            </p:nvPicPr>
            <p:blipFill>
              <a:blip r:embed="rId2"/>
              <a:stretch/>
            </p:blipFill>
            <p:spPr>
              <a:xfrm>
                <a:off x="6494400" y="517680"/>
                <a:ext cx="2146320" cy="544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1" name="Rectangle 35"/>
            <p:cNvSpPr/>
            <p:nvPr/>
          </p:nvSpPr>
          <p:spPr>
            <a:xfrm>
              <a:off x="468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389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578400" y="3213000"/>
            <a:ext cx="32032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896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3" name="Group 82"/>
          <p:cNvGrpSpPr/>
          <p:nvPr/>
        </p:nvGrpSpPr>
        <p:grpSpPr>
          <a:xfrm>
            <a:off x="260280" y="1201680"/>
            <a:ext cx="2482920" cy="2444760"/>
            <a:chOff x="260280" y="1201680"/>
            <a:chExt cx="2482920" cy="2444760"/>
          </a:xfrm>
        </p:grpSpPr>
        <p:sp>
          <p:nvSpPr>
            <p:cNvPr id="1364" name="Oval 38"/>
            <p:cNvSpPr/>
            <p:nvPr/>
          </p:nvSpPr>
          <p:spPr>
            <a:xfrm>
              <a:off x="37152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65" name="Oval 40"/>
            <p:cNvSpPr/>
            <p:nvPr/>
          </p:nvSpPr>
          <p:spPr>
            <a:xfrm>
              <a:off x="34776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66" name="Oval 41"/>
            <p:cNvSpPr/>
            <p:nvPr/>
          </p:nvSpPr>
          <p:spPr>
            <a:xfrm>
              <a:off x="260280" y="1225440"/>
              <a:ext cx="236052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67" name="Oval 42"/>
            <p:cNvSpPr/>
            <p:nvPr/>
          </p:nvSpPr>
          <p:spPr>
            <a:xfrm>
              <a:off x="38412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68" name="Oval 43"/>
            <p:cNvSpPr/>
            <p:nvPr/>
          </p:nvSpPr>
          <p:spPr>
            <a:xfrm>
              <a:off x="31104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369" name="Oval 39"/>
          <p:cNvSpPr/>
          <p:nvPr/>
        </p:nvSpPr>
        <p:spPr>
          <a:xfrm>
            <a:off x="439560" y="1362240"/>
            <a:ext cx="2162520" cy="2172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370" name="Group 83"/>
          <p:cNvGrpSpPr/>
          <p:nvPr/>
        </p:nvGrpSpPr>
        <p:grpSpPr>
          <a:xfrm>
            <a:off x="174600" y="1201680"/>
            <a:ext cx="2643120" cy="2494080"/>
            <a:chOff x="174600" y="1201680"/>
            <a:chExt cx="2643120" cy="2494080"/>
          </a:xfrm>
        </p:grpSpPr>
        <p:sp>
          <p:nvSpPr>
            <p:cNvPr id="1371" name="Oval 44"/>
            <p:cNvSpPr/>
            <p:nvPr/>
          </p:nvSpPr>
          <p:spPr>
            <a:xfrm>
              <a:off x="44604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72" name="Oval 45"/>
            <p:cNvSpPr/>
            <p:nvPr/>
          </p:nvSpPr>
          <p:spPr>
            <a:xfrm>
              <a:off x="1746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73" name="Oval 46"/>
            <p:cNvSpPr/>
            <p:nvPr/>
          </p:nvSpPr>
          <p:spPr>
            <a:xfrm>
              <a:off x="45864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374" name="Group 84"/>
          <p:cNvGrpSpPr/>
          <p:nvPr/>
        </p:nvGrpSpPr>
        <p:grpSpPr>
          <a:xfrm>
            <a:off x="298440" y="2782800"/>
            <a:ext cx="1479600" cy="1454400"/>
            <a:chOff x="298440" y="2782800"/>
            <a:chExt cx="1479600" cy="1454400"/>
          </a:xfrm>
        </p:grpSpPr>
        <p:sp>
          <p:nvSpPr>
            <p:cNvPr id="1375" name="Oval 68"/>
            <p:cNvSpPr/>
            <p:nvPr/>
          </p:nvSpPr>
          <p:spPr>
            <a:xfrm>
              <a:off x="369720" y="2840040"/>
              <a:ext cx="1352880" cy="1366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76" name="Oval 69"/>
            <p:cNvSpPr/>
            <p:nvPr/>
          </p:nvSpPr>
          <p:spPr>
            <a:xfrm>
              <a:off x="396720" y="2881440"/>
              <a:ext cx="1295640" cy="12967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77" name="Oval 70"/>
            <p:cNvSpPr/>
            <p:nvPr/>
          </p:nvSpPr>
          <p:spPr>
            <a:xfrm>
              <a:off x="339840" y="2797200"/>
              <a:ext cx="1409760" cy="1409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78" name="Oval 71"/>
            <p:cNvSpPr/>
            <p:nvPr/>
          </p:nvSpPr>
          <p:spPr>
            <a:xfrm>
              <a:off x="298440" y="2797200"/>
              <a:ext cx="1393920" cy="1409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79" name="Oval 72"/>
            <p:cNvSpPr/>
            <p:nvPr/>
          </p:nvSpPr>
          <p:spPr>
            <a:xfrm>
              <a:off x="369720" y="2825640"/>
              <a:ext cx="1408320" cy="1411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80" name="Oval 73"/>
            <p:cNvSpPr/>
            <p:nvPr/>
          </p:nvSpPr>
          <p:spPr>
            <a:xfrm>
              <a:off x="325440" y="2782800"/>
              <a:ext cx="1397160" cy="1409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81" name="Oval 74"/>
            <p:cNvSpPr/>
            <p:nvPr/>
          </p:nvSpPr>
          <p:spPr>
            <a:xfrm>
              <a:off x="396720" y="2881440"/>
              <a:ext cx="1295640" cy="12967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82" name="Oval 75"/>
            <p:cNvSpPr/>
            <p:nvPr/>
          </p:nvSpPr>
          <p:spPr>
            <a:xfrm>
              <a:off x="411120" y="2881440"/>
              <a:ext cx="1268280" cy="126828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383" name="Oval 76"/>
          <p:cNvSpPr/>
          <p:nvPr/>
        </p:nvSpPr>
        <p:spPr>
          <a:xfrm>
            <a:off x="404640" y="2881440"/>
            <a:ext cx="1281240" cy="1284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384" name="Group 85"/>
          <p:cNvGrpSpPr/>
          <p:nvPr/>
        </p:nvGrpSpPr>
        <p:grpSpPr>
          <a:xfrm>
            <a:off x="241200" y="2782800"/>
            <a:ext cx="1579680" cy="1481400"/>
            <a:chOff x="241200" y="2782800"/>
            <a:chExt cx="1579680" cy="1481400"/>
          </a:xfrm>
        </p:grpSpPr>
        <p:sp>
          <p:nvSpPr>
            <p:cNvPr id="1385" name="Oval 77"/>
            <p:cNvSpPr/>
            <p:nvPr/>
          </p:nvSpPr>
          <p:spPr>
            <a:xfrm>
              <a:off x="411120" y="2782800"/>
              <a:ext cx="1409760" cy="1409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86" name="Oval 78"/>
            <p:cNvSpPr/>
            <p:nvPr/>
          </p:nvSpPr>
          <p:spPr>
            <a:xfrm>
              <a:off x="241200" y="2868480"/>
              <a:ext cx="1409760" cy="139572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87" name="Oval 79"/>
            <p:cNvSpPr/>
            <p:nvPr/>
          </p:nvSpPr>
          <p:spPr>
            <a:xfrm>
              <a:off x="411120" y="2868480"/>
              <a:ext cx="1397160" cy="139572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pic>
        <p:nvPicPr>
          <p:cNvPr id="1388" name="Picture 56" descr=""/>
          <p:cNvPicPr/>
          <p:nvPr/>
        </p:nvPicPr>
        <p:blipFill>
          <a:blip r:embed="rId5"/>
          <a:stretch/>
        </p:blipFill>
        <p:spPr>
          <a:xfrm>
            <a:off x="5435640" y="6213600"/>
            <a:ext cx="3197160" cy="314280"/>
          </a:xfrm>
          <a:prstGeom prst="rect">
            <a:avLst/>
          </a:prstGeom>
          <a:ln w="0">
            <a:noFill/>
          </a:ln>
        </p:spPr>
      </p:pic>
      <p:pic>
        <p:nvPicPr>
          <p:cNvPr id="1389" name="Picture 34" descr="Gold leaf left.png"/>
          <p:cNvPicPr/>
          <p:nvPr/>
        </p:nvPicPr>
        <p:blipFill>
          <a:blip r:embed="rId6"/>
          <a:stretch/>
        </p:blipFill>
        <p:spPr>
          <a:xfrm>
            <a:off x="3236760" y="2801880"/>
            <a:ext cx="623880" cy="159084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35" descr="Gold leaf right.png"/>
          <p:cNvPicPr/>
          <p:nvPr/>
        </p:nvPicPr>
        <p:blipFill>
          <a:blip r:embed="rId7"/>
          <a:stretch/>
        </p:blipFill>
        <p:spPr>
          <a:xfrm>
            <a:off x="4722840" y="2781360"/>
            <a:ext cx="6444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8:15:51Z</dcterms:created>
  <dc:creator>engelight</dc:creator>
  <dc:description/>
  <dc:language>en-US</dc:language>
  <cp:lastModifiedBy>Lindokuhle Chonco</cp:lastModifiedBy>
  <cp:lastPrinted>2022-08-12T12:27:53Z</cp:lastPrinted>
  <dcterms:modified xsi:type="dcterms:W3CDTF">2022-11-18T07:41:17Z</dcterms:modified>
  <cp:revision>562</cp:revision>
  <dc:subject/>
  <dc:title>Slide 1</dc:title>
</cp:coreProperties>
</file>