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370EB4-4961-4B6D-A60A-DBE5F74E1B2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DC391A83-1866-4FAC-A716-A7CEEF7B1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C5DB88C-C12B-4CED-82C5-0B86A00119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1E63224-EEEF-4D84-A1BB-B4A064E0F7C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49EF2FD-6801-4DF0-ADFA-8759575F33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31D143-2665-4DCD-8F8F-991F7C43404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EDE5D7-5515-4A83-A27E-B442715C2D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77CD90-47B2-4008-A9CD-BC98A816AF3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38B235-5120-4C6E-B134-9931DF0D5C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A3BBB1-D0D4-4AFA-86E2-A4182FD03A8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A96CF09-5044-4E9E-89EE-9A340829DA0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0CADCEB-95B1-4E5B-8589-9734CA557F5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D9BDBAC4-57C7-4EE8-949F-0D952DB3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F90C67-96EE-40A7-81EB-0C1A9854DD9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0A33CA-77D8-42DD-8C9F-B1919A0E6F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17011C-1FCC-4546-B6F8-C175F25E7A2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6C901D-C5D3-497D-A970-E2760301E2C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5E23E95-04EA-4F67-A491-9E899904261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098F35D-6AA8-44E5-870A-FB78C9D9DD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AAB8F3-A7BE-40D3-88EB-4B94FB480C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7FDD08-6766-4526-AFA1-B7049F8E90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27C8016-1AC7-4AF9-B768-A9E21542D2D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EC1C624-6199-40EF-BCAA-B107BB74CE2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A3484778-B8D2-4925-B390-E9D1ABFF0CA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C836C12-B5DA-4036-A6B8-905ED027AE3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DA23506-E763-4C39-B4F0-4BA5F24C225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C8E76C1-7EBD-4FC6-9FA0-B0A3D87B88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AEEA18-E694-444C-8534-DEFEB2AF5CE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B91B74B-BEA3-461A-A626-BAA7FA0EDAC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EE93BC8-9E8D-48E6-898E-0DCF8709B3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93577FB-138B-4438-AF17-ED93A81F914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F156E9-0A7F-4D78-B473-031BA92286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EF610B-FAFA-4D73-8B5B-C3A45A0537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A585B7-714F-4EE5-8B51-BF9CC3DC88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354D6BD-61E5-4D5D-8C5C-CA62D3828DF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7D08A57-AD29-4E70-AD40-982967C017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8657FB4-60A2-49C8-B210-16CDADDB775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9E1FFD-582D-44F2-BC01-4BB4EDDB823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3BA40BE-A8FD-45A7-B292-22400DB8A7B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ACFF95-BD5F-47C3-B83A-717064A850E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FA7C4BF-D9A1-4E75-BF67-162D3023B4D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7CB9B2A-9031-4757-8F4D-5B78358EFA7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928518-ED22-46BB-8366-DA3363CFE0D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5C6A72-E57E-4357-82D8-5184D14B70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B180477-DF83-4F56-A4CC-64DE75F9A19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6C1EE1-E988-4EC1-AD63-A8562C1044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77AAB8D-4929-4402-AEF1-641C77D147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55C1E46-72C9-4900-B55D-01455B6759E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F1B1905-8343-4401-A189-98E2D04149F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92DB3CC7-164B-47FD-98F2-B55F81D29F7E}"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0B8A6DA8-4518-4B5D-96C3-C0C0595817B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A0815EBB-071D-413E-99FC-34405AA4798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8E232199-048B-4721-B68C-686C9257359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8063B8D0-E65E-4261-AD39-FFAD99AA0C7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16BDD687-0745-4FD4-85C7-82D02482A8B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085D44D1-6CF4-4BDE-B01C-352D369B31E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DC3E33B6-BEC4-49E4-AA80-F80090CDEF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8A0F2025-180F-488A-838A-E0AA91AF348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F500BF2A-CB67-4A89-8BD5-B8786DF1C08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DAD16136-713C-4A7D-8618-ED7F6AFE6BD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50CE6810-E960-4C20-AE35-81F698ABBBE2}"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5B589361-1E81-48FF-B9C6-FD1C98629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B03309-F611-4F33-9278-2F285BDAA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79E77-3A3C-4D7A-8671-86CBB0D44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FE044-E588-4E48-848C-5D6EDBA4A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3272E-8080-4590-80E1-23716B62D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3F43E-764B-473E-AF0A-C81F32365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A3F1797F-3FD3-431B-8A3A-2ED30089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BD530F-BADE-4171-A9BD-3567567AE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D76E0-D42A-41AB-AF5B-8BFA1BA44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71A25-4653-4329-B302-EA8414DB5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5E371-4C0C-4371-9002-44C106150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BE981-9C7D-4170-83D4-FA539BD35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9666B9-3B37-4221-9050-695336D0B0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D47266-C648-4F9F-8A1D-16B862474B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E1633C-CEB9-4260-850A-CAA6866DCF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4C0B4B-F5E1-433C-9400-35696CEAEE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FF6984-C7F8-42E6-9DA6-7A1576BFB4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5D661604-B5B0-4C25-989C-C611569D2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DBD959-8505-413A-A724-0100F75A73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392771-7929-4C85-8CB3-18EF944AB3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F14F2E-9114-4736-B012-36CD2CB0E0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9429C2-3DF5-4EFD-A0EC-FFCD6913FB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066CD9-85BD-4B90-B1C6-F17C65DCC6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F2208E-FD56-4821-BC31-24D15E7DC5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2D381A-1DCF-456C-B587-D866652D50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F1D9BE5-4640-4371-B2B5-107EB3ECCE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DED82E6-B8CA-4824-B1A7-E4F52A9A7A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C4DD32-789A-418F-8AE7-9DD7BA2D20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F75E96E-565F-402F-90DA-E587367DB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C72DA7-1754-49E4-AAD3-022AA68849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B191BE-7665-4483-A93E-BECC94F890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DEC572-3EBA-4BE7-A89D-8984B8E863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ACC80A-69AD-4FAF-B250-363BA5AC5A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7FB7EB-04D6-4717-B071-5F6C217485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54DF11-BAE3-450E-B2B5-F2EBC4C32E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556405-0B65-43F0-83C0-704E63459F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E36C8F-891D-4D32-9841-85D35E32AA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C95175-3942-442E-8198-6E68566F8B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03B3DDA-000B-4EEA-85F8-A60FF291A58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2C67CB6D-8047-4DB7-A029-AB9FA7DB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517D54-2774-46EC-AD9D-2BAD94F279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20042F5-0EED-4CEB-BC3C-F95A26CB803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5819F7-CC13-429E-8CB2-7F59A112BE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6A550E5-7380-4986-B346-5B129219E5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0AEEEF8-49BE-4EA3-BFB6-99CC8908E5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7F18F8-F04F-4A2D-AF41-4A251A99F4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AB5E40-58A6-4256-9DBC-A90C87C516B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D26C3F-21A3-43C1-A852-59905CB6D3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96AF39-EF8B-452A-B5A8-E44FBFD11E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DB2443-CA69-4FB2-9249-7652B7018F5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E103B464-7FC3-44FF-A283-5472238E5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8F151D-E40B-4886-A309-6E7048F860B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F64C4B-791A-4AE9-A66E-B0D1A3FB1A1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D01D682-F1A8-4045-A29D-EEE70ED5D7A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728B274-3863-473E-A40D-0B394DA8F83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7253EDC-5244-4891-936C-6AD6D1A97C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194616D-3DE0-48E0-8221-4432A416B0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EF62A3F-C79D-4BA6-8E24-7074B7D78F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39153F-F5DC-4F70-B0E8-68F2D28732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B93450E-0111-4B01-B573-A16940A3A17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9E306B-27F1-4B02-9A47-2229FEEB7E3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2877AB8C-48CF-474B-83BE-8BDA18924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4BEEBA-4EB8-4B16-8FB4-CB9A4B9A72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660C35-5614-4A5C-A054-C50F6D2B6C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12A2929-5DE8-4BED-A996-59A1FAAEC6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4C0DE7E-BC3E-4F42-9DB4-2E613A7AF04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42A0964-A2A3-41D5-95EE-2ED3D0BE31A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3155E40-EC22-4FCD-8A9F-05C8711EA12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95F2B3B-F189-4071-901A-57936DAA40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7A626EC-ECE0-457D-B33B-EDF1398DC4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8BE8A30-9347-45FD-A64C-25886871D0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83C9B1-2709-4BE5-AC1E-C25F010FBC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495D1154-A8C6-46BC-8F33-EC4400459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732955-3C1D-4DEB-B3B4-CC5CAA4BF5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235A56-65E3-44C0-8000-BDBAD8F415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BA5750-59A4-4CAD-BB85-8237FF2AE5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999F37-8204-4DCE-B974-B159E48B3E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29AD24-54C4-4EF2-B277-3C62461B31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A791619-61B3-47D7-AAED-BF139D34036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2BF9AEF-6D39-4550-9487-8E859A2AD3B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A4E3624-47DF-4362-9746-9E6484806FA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6F2E74-B1EA-4429-B616-9025AAB88D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2533F4-B55C-4BDE-9B77-298623364CF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2F97-5AC0-4D81-84CA-728A311E7A9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DACF-559A-40EB-A2EA-2515B747251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F232-53FA-4053-A4A3-81EBA99F89F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086A-2001-43D2-8718-B2579093C2C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4B99-1682-4B79-97DC-60C9F411F21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A61C-13C7-45DB-A45D-8C6D8E48677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2BD5-8F8D-4AFC-A17C-D17CC66B2DA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8E3F-6E5E-43BF-8851-3F7E1443FAD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5503-6D45-4D81-877F-7DE73B598C8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09F6-26E1-4C58-9A65-1F576103774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2AB1-7056-46A5-B87E-D9C3907E631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46E3-A098-4ED6-86F4-8A19CFB42C9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Rectangle 2"/>
          <p:cNvSpPr/>
          <p:nvPr/>
        </p:nvSpPr>
        <p:spPr>
          <a:xfrm>
            <a:off x="2808360" y="2263680"/>
            <a:ext cx="6027840" cy="2957760"/>
          </a:xfrm>
          <a:prstGeom prst="rect">
            <a:avLst/>
          </a:prstGeom>
          <a:noFill/>
          <a:ln w="0">
            <a:noFill/>
          </a:ln>
        </p:spPr>
        <p:style>
          <a:lnRef idx="0"/>
          <a:fillRef idx="0"/>
          <a:effectRef idx="0"/>
          <a:fontRef idx="minor"/>
        </p:style>
        <p:txBody>
          <a:bodyPr lIns="90000" rIns="90000" tIns="46800" bIns="46800" anchor="b">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6"/>
                </a:solidFill>
                <a:latin typeface="Arial"/>
              </a:rPr>
              <a:t>Quality Presentation on Land Surveying Services (MWP1593TX) Augmentation Tender Clarification – 13 September 2022 </a:t>
            </a:r>
            <a:endParaRPr b="0" lang="en-US" sz="2800" spc="-1" strike="noStrike">
              <a:solidFill>
                <a:srgbClr val="00389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60" y="128160"/>
            <a:ext cx="7164360" cy="8859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Contractual Criteria</a:t>
            </a:r>
            <a:endParaRPr b="0" lang="en-US" sz="2400" spc="-1" strike="noStrike">
              <a:solidFill>
                <a:srgbClr val="ffffff"/>
              </a:solidFill>
              <a:latin typeface="Arial"/>
            </a:endParaRPr>
          </a:p>
        </p:txBody>
      </p:sp>
      <p:sp>
        <p:nvSpPr>
          <p:cNvPr id="657" name=""/>
          <p:cNvSpPr txBox="1"/>
          <p:nvPr/>
        </p:nvSpPr>
        <p:spPr>
          <a:xfrm>
            <a:off x="436680" y="1436760"/>
            <a:ext cx="8378640" cy="5045040"/>
          </a:xfrm>
          <a:prstGeom prst="rect">
            <a:avLst/>
          </a:prstGeom>
          <a:noFill/>
          <a:ln w="0">
            <a:noFill/>
          </a:ln>
        </p:spPr>
        <p:txBody>
          <a:bodyPr anchor="t">
            <a:normAutofit/>
          </a:bodyPr>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for the Contractual Criteria, just an indication that the supplier has met the requirements listed under the Criteria. The evaluation will only be conducted to the suppliers who have met/ pass all the functional criteria requirements. The outstanding information will be requested in writing through the buyer from the supplier and should be resubmitted within 5 days after the request. The Quality rep will indicate if  the information is acceptable  or not.</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724F-26FA-4F4F-B20C-0AFE3B354DB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95B8-F697-4810-BB68-4201C0AAB63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0"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 </a:t>
            </a:r>
            <a:endParaRPr b="0" lang="en-US" sz="2400" spc="-1" strike="noStrike">
              <a:solidFill>
                <a:srgbClr val="ffffff"/>
              </a:solidFill>
              <a:latin typeface="Arial"/>
            </a:endParaRPr>
          </a:p>
        </p:txBody>
      </p:sp>
      <p:sp>
        <p:nvSpPr>
          <p:cNvPr id="661" name="PlaceHolder 2"/>
          <p:cNvSpPr>
            <a:spLocks noGrp="1"/>
          </p:cNvSpPr>
          <p:nvPr>
            <p:ph/>
          </p:nvPr>
        </p:nvSpPr>
        <p:spPr>
          <a:xfrm>
            <a:off x="324000" y="1196640"/>
            <a:ext cx="8378640" cy="5256360"/>
          </a:xfrm>
          <a:prstGeom prst="rect">
            <a:avLst/>
          </a:prstGeom>
          <a:noFill/>
          <a:ln w="0">
            <a:noFill/>
          </a:ln>
        </p:spPr>
        <p:txBody>
          <a:bodyPr anchor="t">
            <a:normAutofit/>
          </a:bodyPr>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QM 58 Specification</a:t>
            </a:r>
            <a:endParaRPr b="0" lang="en-US" sz="2000" spc="-1" strike="noStrike">
              <a:solidFill>
                <a:srgbClr val="003896"/>
              </a:solidFill>
              <a:latin typeface="Arial"/>
            </a:endParaRPr>
          </a:p>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3896"/>
                </a:solidFill>
                <a:uFillTx/>
                <a:latin typeface="Arial"/>
              </a:rPr>
              <a:t>Section A :  Quality Management System Requirements ISO 9001</a:t>
            </a:r>
            <a:endParaRPr b="0" lang="en-US" sz="2000" spc="-1" strike="noStrike">
              <a:solidFill>
                <a:srgbClr val="003896"/>
              </a:solidFill>
              <a:latin typeface="Arial"/>
            </a:endParaRPr>
          </a:p>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bjective evidence of documented QMS that complies with ISO 9001</a:t>
            </a:r>
            <a:endParaRPr b="0" lang="en-US" sz="2000" spc="-1" strike="noStrike">
              <a:solidFill>
                <a:srgbClr val="003896"/>
              </a:solidFill>
              <a:latin typeface="Arial"/>
            </a:endParaRPr>
          </a:p>
          <a:p>
            <a:pPr lvl="1" marL="717480" indent="-271440">
              <a:lnSpc>
                <a:spcPct val="2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Method statement based on scope. </a:t>
            </a:r>
            <a:endParaRPr b="0" lang="en-US" sz="1800" spc="-1" strike="noStrike">
              <a:solidFill>
                <a:srgbClr val="003896"/>
              </a:solidFill>
              <a:latin typeface="Arial"/>
            </a:endParaRPr>
          </a:p>
          <a:p>
            <a:pPr lvl="1" marL="717480" indent="-271440">
              <a:lnSpc>
                <a:spcPct val="2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Policy Approved by top management.</a:t>
            </a:r>
            <a:endParaRPr b="0" lang="en-US" sz="1800" spc="-1" strike="noStrike">
              <a:solidFill>
                <a:srgbClr val="003896"/>
              </a:solidFill>
              <a:latin typeface="Arial"/>
            </a:endParaRPr>
          </a:p>
          <a:p>
            <a:pPr lvl="1" marL="717480" indent="-271440">
              <a:lnSpc>
                <a:spcPct val="20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Quality Objectives Approved by top management.</a:t>
            </a:r>
            <a:endParaRPr b="0" lang="en-US" sz="1800" spc="-1" strike="noStrike">
              <a:solidFill>
                <a:srgbClr val="003896"/>
              </a:solidFill>
              <a:latin typeface="Arial"/>
            </a:endParaRPr>
          </a:p>
          <a:p>
            <a:pPr lvl="1" marL="717480" indent="0">
              <a:lnSpc>
                <a:spcPct val="2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FBFA-4EF3-4ECC-B3FD-C0182BF1828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64" name="PlaceHolder 2"/>
          <p:cNvSpPr>
            <a:spLocks noGrp="1"/>
          </p:cNvSpPr>
          <p:nvPr>
            <p:ph/>
          </p:nvPr>
        </p:nvSpPr>
        <p:spPr>
          <a:xfrm>
            <a:off x="324000" y="1052640"/>
            <a:ext cx="8378640" cy="5400720"/>
          </a:xfrm>
          <a:prstGeom prst="rect">
            <a:avLst/>
          </a:prstGeom>
          <a:noFill/>
          <a:ln w="0">
            <a:noFill/>
          </a:ln>
        </p:spPr>
        <p:txBody>
          <a:bodyPr anchor="t">
            <a:normAutofit/>
          </a:bodyPr>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B: Evidence of QMS in operation (Tender Quality Requirements -240-105658000 /240-105658000)</a:t>
            </a:r>
            <a:endParaRPr b="0" lang="en-US" sz="2000" spc="-1" strike="noStrike">
              <a:solidFill>
                <a:srgbClr val="003896"/>
              </a:solidFill>
              <a:latin typeface="Arial"/>
            </a:endParaRPr>
          </a:p>
          <a:p>
            <a:pPr>
              <a:lnSpc>
                <a:spcPct val="20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ocumented information for defined roles, responsibilities and authorities</a:t>
            </a:r>
            <a:endParaRPr b="0" lang="en-US" sz="2000" spc="-1" strike="noStrike">
              <a:solidFill>
                <a:srgbClr val="003896"/>
              </a:solidFill>
              <a:latin typeface="Arial"/>
            </a:endParaRPr>
          </a:p>
          <a:p>
            <a:pPr>
              <a:lnSpc>
                <a:spcPct val="20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ocumented information for Control of Externally Provided Processes, Products and Services</a:t>
            </a: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2240-2183-4C34-B371-BE79DBA4283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67" name="PlaceHolder 2"/>
          <p:cNvSpPr>
            <a:spLocks noGrp="1"/>
          </p:cNvSpPr>
          <p:nvPr>
            <p:ph/>
          </p:nvPr>
        </p:nvSpPr>
        <p:spPr>
          <a:xfrm>
            <a:off x="669960" y="1436400"/>
            <a:ext cx="8378640" cy="4079880"/>
          </a:xfrm>
          <a:prstGeom prst="rect">
            <a:avLst/>
          </a:prstGeom>
          <a:noFill/>
          <a:ln w="0">
            <a:noFill/>
          </a:ln>
        </p:spPr>
        <p:txBody>
          <a:bodyPr anchor="t">
            <a:normAutofit/>
          </a:bodyPr>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C: User defined additional Requirements &amp; miscellaneous (Ref 240-105658000)</a:t>
            </a:r>
            <a:endParaRPr b="0" lang="en-US" sz="2000" spc="-1" strike="noStrike">
              <a:solidFill>
                <a:srgbClr val="003896"/>
              </a:solidFill>
              <a:latin typeface="Arial"/>
            </a:endParaRPr>
          </a:p>
          <a:p>
            <a:pPr indent="0">
              <a:lnSpc>
                <a:spcPct val="2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ustomer specific requirements &amp; other standards and required can be listed and evaluated here</a:t>
            </a:r>
            <a:endParaRPr b="0" lang="en-US" sz="2000" spc="-1" strike="noStrike">
              <a:solidFill>
                <a:srgbClr val="003896"/>
              </a:solidFill>
              <a:latin typeface="Arial"/>
            </a:endParaRPr>
          </a:p>
          <a:p>
            <a:pPr>
              <a:lnSpc>
                <a:spcPct val="20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rm A is completed and signed.</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69"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Godfrey Radzelani</cp:lastModifiedBy>
  <dcterms:modified xsi:type="dcterms:W3CDTF">2022-09-16T12:55:56Z</dcterms:modified>
  <cp:revision>31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