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11.jpeg" ContentType="image/jpeg"/>
  <Override PartName="/ppt/media/image21.jpeg" ContentType="image/jpeg"/>
  <Override PartName="/ppt/media/image6.jpeg" ContentType="image/jpeg"/>
  <Override PartName="/ppt/media/image30.wmf" ContentType="image/x-wmf"/>
  <Override PartName="/ppt/media/image33.jpeg" ContentType="image/jpeg"/>
  <Override PartName="/ppt/media/image29.wmf" ContentType="image/x-wmf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31.wmf" ContentType="image/x-wmf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0306-204D-494F-B819-39465B88E7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932D-0940-4AEF-9043-5DDCA4EC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B7AFE-C0EE-4A05-B12E-4A120EFB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6483D-6BAA-40B6-ADB6-7B1DEDC7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640D9-C911-4B72-A41B-8D311074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B0A8-75A8-4BFA-BFFA-48C2B564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99B83-260F-4E73-B954-F65D617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6CC69-42C6-4B1D-B830-E1BA3F7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BF9CC-ED8D-4082-A8DC-40B444E3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7B39C-0D6E-400C-82EA-3A019ACF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C64F3-5F84-497A-8890-3812563E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FE84-8F08-4956-B5C4-733DF08A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EABD-7131-42A0-B20B-7DD7705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2B48D-C149-4851-8D7E-B6C5C6AA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5A57A-8CD9-40A5-AE11-96236F1B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3B58E-E37E-44B6-9759-A33AF06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DE2C-7B75-4CE3-AD59-4816C0FF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453E-88BA-4281-8FE8-D543669C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53AD8-6184-4041-A73F-4E3E7B92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6D4C-62F1-4BB1-8B02-1A620209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47055-EF70-44FC-90F5-0CECDAAC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4F4EE-A073-45C6-8B73-BAD050D6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C96A-E35E-4AC6-AEE4-48190D46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9865-1808-4460-A1AC-7FE7EDDB20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ABEC0-409F-48D1-A239-0D31182D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CD9E3-243F-4D4E-9CFF-332FB5A0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0250F-8FD6-4F40-B058-26E655DF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CC074-8188-4B29-B208-02622E61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62CFD-6B65-4D51-B72A-7F4A4329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BE704-65F5-4B10-9523-954FEBA0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83756-3B10-45C9-B79C-3F6B2D0C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E3BAA-F057-4828-948D-C2954F2D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218F1-AF68-4542-BE74-BFF92DB8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9B6D8-F1AE-470E-9B4E-9D55C3F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0C2BB-B1D9-4736-AD9E-603C0F367B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1CB98-87D9-419F-85DB-4F7B9981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7CC02-0A5D-4869-8E77-261CDBA6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7E644-2817-48BB-87F8-F2188B37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B31F6-9D4A-40F1-B5F7-C326A8BA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79CC5-0F81-4CBE-9A27-C1F5D231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E9800-BA5C-48B7-97A9-676F2541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986E9-A7DA-4409-A8BE-EFC23A5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D8366-A3DF-4C10-BEBE-0A6CB09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BC3BA-B1FD-4A88-AD44-C4E1256E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51C4F-0E79-4A2A-BD6C-0467E8BE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03AFE-186E-4A62-8EB3-146EF199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B503C-1BF4-4EE7-9DA9-9AF2E446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51F53-2E1B-4275-88A8-E68DF9FC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E5CAB-CF9D-40A0-9464-01598B59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6EB06-538F-4E62-A5A9-C31B80DD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F8CEA-8199-4553-9C1F-D9EDA87F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1C9CA-A036-4E4B-B8E4-06349163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3DD0A-E75A-49B4-8F24-261BCEB8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267E4-E43A-4AC6-B3D2-1BCD9A53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79504-5B87-48D3-9760-CD0FB4A9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79EE2-0204-449F-9ADC-401C07D4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273EB-9B4E-46F1-A1FD-B056BFEF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DC755-345B-4EF4-8CDC-9F5D607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5930C-8214-4398-BD93-3A801FCD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6FA10-ED3F-4DBA-894E-942AF06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07DDD-A6B5-4FC9-87DB-41A1D51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4AD28-749B-4F40-A3A1-C625DD85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D7335-1BB0-4E5C-926B-A5AE5B3B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CF5D6-4ACF-4C15-A6B3-EE4F33BC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C2591-D15A-4E08-91C3-028DE7F0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19B2A-EBD4-4EFD-A6A4-A047454A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52AD5-E621-4E3B-A434-2967F829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4391-1DEF-4C80-9B47-453B8420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D14D6-65E1-434F-9C03-FBEB96B5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2DB6C-3FC8-4A39-84E5-6F4BAD29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717AC-FB2A-4D10-B52C-07B84590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9FE54-87B1-4100-8F5E-B4C18029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44478-755D-4216-B6AB-0304D5C5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B66F3-3C9A-40AA-9FB1-E6A2FC71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DA605-DE2A-42A2-99F3-A3A1E43E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A52C6-FA1C-47BC-97C5-260738E0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C3E00-A8C9-469C-A2AF-0B272EF7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D434FA-4610-4BC0-A355-316AB9DFB7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E29C3-6BFB-499E-84E0-E3DD111D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02CB24-8024-49A1-B65A-3553D505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D38639-26C0-49EA-81B1-4A97E6EE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7C867A-304B-40E4-82B0-9953D970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40DEDE-9CDD-419F-8FB8-ADF7E252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376AA2-AD1E-49A9-9038-7FACC412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CA26FC-CB2B-45E7-9E0B-B15A3B93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8362E9-A3F8-4876-A2F6-107BB9E0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C4B2C5-B77F-433B-9906-D5FB76B4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26AA07-95E2-4D3E-86CF-20BBD9E2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506C6D-85F4-4384-8353-34990FC1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4AFBF-EE2D-4531-BC92-7705C413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8C2D04-604D-49B4-BA92-F5D5D20D0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6728E-5BF8-4BB5-83D8-C5AD0BF8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4F4D87-CFA9-4F24-84AE-BAE06C2C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CFC0D1-B414-4366-BFF7-6D0E911E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96D7CE-CCF9-40CD-A378-4F7AE72F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F1A877-9224-4674-B410-D0C351C0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F582B4-406B-4F68-99E1-A4D6882E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D92C31-5007-4FA2-A05E-158F7A12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2339AE-8798-4C6A-BD01-EEE09074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F1EF-8373-4106-8E5C-6AFBF0E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241A2-E1C4-4586-B7C2-6274817F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E2709B-F74D-4CE3-A9E3-F8BC91D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7BC659-0FB2-45AA-8D03-65399F1C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C12F12-A898-4B39-A35B-8264AF89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D03048-A232-4826-98F3-56024316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08BC1B-072A-4928-A96C-41DFE1E9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5D8E8B-016A-4C69-9BD2-7D83F6C0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0985AE-0353-4CAC-810E-34BD2313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F44784-3BD7-4321-84DE-9E5F7484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B387DE-DFA6-484C-A53E-A583D11B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346AC3-B258-4BA3-942C-99D5AE04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FEF12-5EDA-4F96-9225-1F830F51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F50998-87EE-4F5D-91CA-9F885888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50BD57-4C25-4A76-AAB0-85B2CCEC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367A8B-B863-42A6-B8B0-84C656B4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53E825-646A-4A3C-B211-D3A33231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BC84E5-AF65-4B5C-8B3F-C407101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DFF471-6087-4B96-A2E6-5E426D84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079DB2-C705-4556-BAA0-EE74BE94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3F48A1-D83A-4090-A79E-69F8F6EE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351186-D8CD-4AE7-82CC-F0D33DA8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B257E3-6585-4073-8BCE-FE8411E2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BCC7F-4A7A-4B63-92F8-2A78D56C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0F0C3A-3BA3-4209-B010-2A7C2612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D06A1E-73EA-49A4-801E-C0001F7A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8C5120-BCF8-4D57-94CC-E4DED53F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AC86B8-0B95-46FA-A9F2-035540A7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E4885E-F875-43E0-A5AF-F104AA00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EE62DB-8DEE-462E-AD87-2F5FA57A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EC4836-3AF5-473B-ADF3-96420B2F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B68E9C-0D4B-4E1C-90A4-7AE623A1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C1B2DC-43D3-43D2-9FE0-5D8529B3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E315CC-21D5-49F5-8FFB-B6C83C76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77203-AA13-4696-B125-8EB1763C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B34D4D-E93B-4AEC-9438-B31DB688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4DB18C-A447-45A2-B8C3-601AFE97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D5626E-299A-4120-A5E0-423633A0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AD841E-784B-41DD-9C89-B806D43E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8C5E4C-ABCB-42D4-88C0-11B5C5EF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33F71B-A218-4036-A791-1DF6D1AB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EB58DF-603B-4EDA-8694-1001D670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F60A89-918B-4EDC-9937-9BAFD014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C7F23F-B1D7-40C9-A154-0AB2BCBD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4F9D05-FB69-4900-8428-103BB11B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6F8C9-3636-4147-9EC6-568DAE52E1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83C877-6A2F-429B-9D8B-CF44DD77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99B92B-D1B4-47B0-9740-5ED5EBA7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C88E44-B8D1-4300-80E6-E17F9062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054A09-84A3-4D95-82E3-936B313B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50F196-2856-4828-B1B2-757AA35B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19B93F-3CD7-4263-8F3B-3C83AC03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A8BA47-2E17-46FC-B283-789DF50F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80B6AE-3B37-4433-8423-047AF09F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C915DE-75CF-4E84-8003-2E966AA0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AD293F-EEA4-49FF-96CE-FADDD150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3166-E8F4-415E-967D-E229E844F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472DCC-9899-48C0-9E84-1FD04006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B2B2AB-09D2-47DE-B44D-2D3BF57B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41E1C4-9B53-4E27-AB62-B8B19909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B7FAF9-8284-450A-9B4C-6F593091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8AAA44-4354-4E73-BD9B-D6BC8214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844CDD-8B9A-4C9A-AF35-C847B321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62FEEB-B862-40B7-B989-20191D58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CDF553-081B-44C4-AE0B-9234B1B5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962E41-B914-489D-BA22-B35C5507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C5BF451-F284-4442-87BF-20B75910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7DB2-C1C4-466F-8FED-0B5AE26D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30F71A-9F44-4528-91A7-D262F884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BDCEE1-8FB2-4229-97CA-E98549D1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1AFD03-C2D7-4CB9-9186-9BC70FFA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C22115-2DA4-418A-B394-0D34A184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C83ECA-AE8F-4012-ACA5-3C3291B9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5607F7A-40B4-4188-82FC-55BF6B37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6D49FE-D565-425D-A016-C8F6C209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EBCB00-6A56-4B00-91D1-775AF269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7204CF-4B6D-4DC6-B460-AF5D58FE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64BA7C-DABA-45E7-BBDE-CFB6A0A0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195A-77EA-4F56-9282-DE9BE053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690A96-A0AF-4303-8B4B-88DDF03A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838A312-50FD-4FAB-9309-2C951C3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4E812B-A26C-43D8-85D8-AF48160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7642DD-C019-4A72-8108-202EEEC7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F426B0-4F27-453D-83B6-3ADE45F1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2FBA59-6EF9-436D-94B5-8526B1B9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702F25-F2F7-4209-A2CA-85955831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0C96B8-B7E0-48D6-9073-D5CDBB9F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F14FA7-8C80-4F0B-943B-8F77092F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C557F08-28DF-4CE9-A967-F96B3D5F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CDF3-B918-42CB-87F1-36303875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E46DF1-0858-4789-A7E4-5D620C8A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FBF4162-AAC4-4E0E-88B6-94900955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B6FFA3-EC82-408E-9CCE-7015AB2A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3643942-A74B-4147-B23B-C6A1588A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13E15C-A70F-498C-B3CE-AC0F1FE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A2A00F-9AB9-4A30-AB7B-30B3269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360096-5297-44EB-A076-49E1B0A7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1BD1E45-E28B-4873-87A9-395E3B6C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FEAAFB4-D214-47E8-A141-C788011B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5281CE-C019-4773-8E36-71BDF3C3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2B79-3BE6-4752-B309-B8EE6A0E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47DA8EC-6C25-4A69-A677-8789A1F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9874021-6C4A-483A-99B3-C397288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8A8AAA-E7EC-40BC-A511-F1D97FD2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50C0F5-EDF1-4F9F-8449-906D561A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3F65B25-1536-4C85-B6C2-1840708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702C78-68A2-426D-AF07-14A60142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381FCD-A4F1-4935-853A-EAB89C6C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C5AC293-C0A4-4845-9E4F-DCF2721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1CBBD0-E2CB-46AA-A1C9-6B4B5670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EC8793E-E6FD-4A36-B931-A80F39F5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D3D1-9F71-4F7B-8A6D-58B35D49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B32D-73AC-4C47-BAA0-ECB6AE93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E724EB-A00B-44C1-A495-434EA805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3CC9CF-8860-4BE4-9585-170DADFA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A74C5F9-CC79-4628-BEF5-D2B282EE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E637B4-9BA6-4418-B770-16151F13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337195-0BDB-4F42-BECE-6CAA0FB0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5765E3-FFAE-481C-B0AC-7AD15FC1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0BA45C-592E-4D11-BA33-2E3CB411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FF02F45-95AC-4316-A7EE-95E8DDF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EF8FE2A-A352-4767-B094-8E82BBA3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45C143-5B83-4407-A30D-10A8FF7B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DEB0-BD82-42C2-8401-F95A0228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46897AB-09D0-4E7E-A3CF-8B086821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55C030-D11C-4169-A315-982DFD2E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8A520EB-0EDD-4075-BD17-BA26EBD0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631739D-3CDD-4DA5-ACFD-F298A3F3FB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DB6B4B4-27AB-43E0-9F16-8E1ED1A0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70DBC64-7663-4B88-9090-699991F6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5FA1A4-5AEE-4D01-878C-EF2CB85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F5B1D4-B896-418C-81C0-FA7668E8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F5C036-2A21-4FC8-A009-462CABC1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45FCBE-2A80-43CF-A789-A7B694D1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E301-EC76-4EF4-94AF-50FA3E72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C1CEE97-8009-468E-8EE7-5799F08F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BE437E4-247B-49FB-9689-7EA4C893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AE52583-C8D4-43EF-9330-22E50FED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13A5500-4E52-4BAF-9407-E3E527B4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D46056C-C6B8-4A0F-8CCD-F436E7896C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763C-9B60-4372-A9CF-0902C99D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FF42754-E153-4435-AC36-11A9F3CB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66BC9E9-2074-4663-A9AD-2882EE12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84AD93-C530-4D9D-A385-BDEF7405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7092-2451-4BC5-9BE3-D9C49CEC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6AC6980-1C96-42FE-A189-5960CB6D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70BC6FD-DE8E-4068-98EF-DE81314C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FF493E6-B956-49D6-AE83-7ED1AC13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E603833-EB4D-48F7-A557-418C0E73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2452512-612D-496D-BC26-37F2D99B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4C920A-B457-466A-B391-0F1FBB25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45AC26A-4B96-4331-AE8A-7FC51292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AF6DEA-0428-491E-8B73-D620E291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DCF8D56-EBE8-4186-B0AF-D30DC484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95EF-D3D7-4D92-903A-AA815D57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E92E-E9B6-4E0D-B442-B0D92DD7E3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2687-922A-4603-94E7-3B3FA40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CA5B-6851-4FE1-8496-3C4EEA92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0338-737E-452D-AB4E-4A261588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291E-7749-47B0-923F-57547441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B40A-4C80-42EC-A8CE-AF0E41B7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5859-EA33-421C-B7A5-F2C0F5DC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EBF5-E2A3-471F-83DB-C788E144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B92C-DB14-4D61-9532-9B1A6FBF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A2A9-3D0A-4A50-8BBB-EF384E39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CC37-37AC-4131-82AB-308E7C8F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5DACA-4DB7-41E3-8C07-DABF9C3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58C6-BB88-4465-B01F-243A235C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32E7-6C12-4A97-BE63-25424F12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A1A8-D85C-41E0-A654-5109F553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AD35-4864-4CC0-BAA9-6E662ACA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9C53-9F56-4FF5-AE51-0D0F50CF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2B35-E2ED-4B9B-A64C-94FA3365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C69CB-E84B-4765-A252-A8D80F0C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9F48-44AC-4D07-8F77-12A75950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406F0-6CAD-4F9F-A72E-2B544277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25F8-9300-41EE-AE6C-C8DF5B34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9ED2-34C9-4FA4-8402-20A01BD1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24B6E-1942-4FBE-A714-C485F069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E0F2-895F-485D-B29C-4585BC2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8B02-1357-498A-845C-0785E225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4204D-3E57-41C3-A81F-5371BEA6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40A5-EDE3-4861-8A8A-7D9BB693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3A45-7DF5-46C5-B599-8CFB4F96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FA498-08DC-4718-BFF2-9967A948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EB1D4-6080-475C-9155-0F3D8DB7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F8C26-CE3E-4F9D-B426-BF5A5E4A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A6BB-2378-4863-BDB9-FF7A2C58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8F1AF-2764-42FF-B427-BC70FE74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772C-BB87-49A7-98A4-06486D6D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14731-9CA2-42F3-BE90-ED3C1307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B79C-7860-4927-8BC4-CA9F585E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B6986-B9DD-47FB-A00B-38DF65ED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100E-5EBB-4DA9-87DA-A81C9915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72905-9E6A-4C57-BD71-2571E346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95D0-FFA2-4C6B-88DE-2AA50022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B2657-CE42-4FCD-B40B-9D1679F4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08C51-AB83-4237-9EAB-15C4C5AB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4B3B1-08C6-4C84-A5CE-29EAD215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EFBD6-7A40-4756-A5B4-7F669B1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BEAEB-53D7-47B5-A5D2-31F4D678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751A9-4C60-4167-830B-1FF68D0E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A8EF-09E9-4015-9282-32324B5E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62950-FDFB-4AE0-A0E7-4EB0C903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CC66-C924-4CDF-8434-36EF5A6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600E9-E1E9-41C7-99E3-164961C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9CB6B-EA62-4A12-B6A8-B21185E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4AE0E-3FFA-4CAA-BD2F-B831BF8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F94D-996C-4B4D-A314-9B70B2E0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2C7D-8727-493D-B17D-A1BFC831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591D2-3F4E-4AD4-B171-B8DF9F9E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66F7A-FDCD-488C-AA43-E4F0127B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4255B-D005-4B09-BA64-F2351A2A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25.xml"/><Relationship Id="rId9" Type="http://schemas.openxmlformats.org/officeDocument/2006/relationships/slideLayout" Target="../slideLayouts/slideLayout326.xml"/><Relationship Id="rId10" Type="http://schemas.openxmlformats.org/officeDocument/2006/relationships/slideLayout" Target="../slideLayouts/slideLayout327.xml"/><Relationship Id="rId11" Type="http://schemas.openxmlformats.org/officeDocument/2006/relationships/slideLayout" Target="../slideLayouts/slideLayout328.xml"/><Relationship Id="rId12" Type="http://schemas.openxmlformats.org/officeDocument/2006/relationships/slideLayout" Target="../slideLayouts/slideLayout329.xml"/><Relationship Id="rId13" Type="http://schemas.openxmlformats.org/officeDocument/2006/relationships/slideLayout" Target="../slideLayouts/slideLayout330.xml"/><Relationship Id="rId14" Type="http://schemas.openxmlformats.org/officeDocument/2006/relationships/slideLayout" Target="../slideLayouts/slideLayout331.xml"/><Relationship Id="rId15" Type="http://schemas.openxmlformats.org/officeDocument/2006/relationships/slideLayout" Target="../slideLayouts/slideLayout332.xml"/><Relationship Id="rId16" Type="http://schemas.openxmlformats.org/officeDocument/2006/relationships/slideLayout" Target="../slideLayouts/slideLayout333.xml"/><Relationship Id="rId17" Type="http://schemas.openxmlformats.org/officeDocument/2006/relationships/slideLayout" Target="../slideLayouts/slideLayout334.xml"/><Relationship Id="rId18" Type="http://schemas.openxmlformats.org/officeDocument/2006/relationships/slideLayout" Target="../slideLayouts/slideLayout335.xml"/><Relationship Id="rId19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A8E9-EF7C-4424-BBC6-31BD9474B0B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BF60-DDED-4650-9709-66C60A55B08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DFF4-B658-4A85-92A2-52DF92BE60F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42A8-607E-4D2B-A442-896F4F441D6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2238-6966-434A-960E-6EC50D5D40D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1B30-D616-43A2-A298-0AB44318510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38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9A7F-5E2E-42C8-948E-2AC9AD8D076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683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685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7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8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9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0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1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2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3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4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5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6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7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8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9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0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1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2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3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4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5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6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3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4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5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6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7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8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9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0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1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2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3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4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4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F653-D4D2-4B5F-9A6F-293EBE6AA9B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4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4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DDBC-E89D-4E12-A1C4-A62512291E3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49AD-0E41-4337-ADFF-64FC6FCF6D2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94F2-3D77-4098-B003-8077DDE76C1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4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4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5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8496-34CA-4A91-B0A5-B643B7C492C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5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5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5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C7DE-8791-4A63-88FE-C2D94C36219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5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5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5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4BD5-E8C4-49A3-BFCD-0070BFF9B97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5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5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5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16D4-4919-4253-BD12-591F1D817D3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6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6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6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9DEC-6F6A-4EE8-91BE-E1857C4C2CB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6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6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6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0D26-EA3E-4BD4-9305-A46C3492EDF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6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6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6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F079-FF3F-445F-A8F7-703BBB63910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4"/>
          <a:stretch/>
        </p:blipFill>
        <p:spPr>
          <a:xfrm>
            <a:off x="8250120" y="6318360"/>
            <a:ext cx="549360" cy="403200"/>
          </a:xfrm>
          <a:prstGeom prst="rect">
            <a:avLst/>
          </a:prstGeom>
          <a:ln w="0">
            <a:noFill/>
          </a:ln>
        </p:spPr>
      </p:pic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6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sldNum" idx="70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6440-653B-48B7-B1F7-088C63FF251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49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251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3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4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5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6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7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8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9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0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1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2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3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4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5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6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7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8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9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0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1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2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3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4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5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6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7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8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9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3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4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5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6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7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8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9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0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1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2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8"/>
    <p:sldLayoutId id="2147484001" r:id="rId9"/>
    <p:sldLayoutId id="2147484002" r:id="rId10"/>
    <p:sldLayoutId id="2147484003" r:id="rId11"/>
    <p:sldLayoutId id="2147484004" r:id="rId12"/>
    <p:sldLayoutId id="2147484005" r:id="rId13"/>
    <p:sldLayoutId id="2147484006" r:id="rId14"/>
    <p:sldLayoutId id="2147484007" r:id="rId15"/>
    <p:sldLayoutId id="2147484008" r:id="rId16"/>
    <p:sldLayoutId id="2147484009" r:id="rId17"/>
    <p:sldLayoutId id="2147484010" r:id="rId18"/>
    <p:sldLayoutId id="2147484011" r:id="rId19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2C09-9555-416B-8649-74E2B6797FC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82CE-B16A-4B20-99E6-B0F49E2C5C7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64EF-DE36-4495-9D42-E4422455A5A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ABC7-ADFC-477E-84B2-02D3366CFC1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8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0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5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4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5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6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7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8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9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0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1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2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3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4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5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6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7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8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9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0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1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2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3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4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5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6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7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8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E53-409C-454D-9ACF-872F88D36C1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10BB-7963-4027-9CB1-E0D1E4716B1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B97E-3757-4119-8BAF-C2D11DCFD39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44F2-8EBD-4A5F-A9F7-39C846A9DBF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2B0A-1B57-43AE-A75B-683B6796D08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75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376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78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9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380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1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2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3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4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85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386" name="Oval 102" descr=""/>
            <p:cNvPicPr/>
            <p:nvPr/>
          </p:nvPicPr>
          <p:blipFill>
            <a:blip r:embed="rId3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88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38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92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393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4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5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6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7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8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9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0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401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40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40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40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40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413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414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41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418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419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0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1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2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3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4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425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426" name="Oval 138" descr=""/>
            <p:cNvPicPr/>
            <p:nvPr/>
          </p:nvPicPr>
          <p:blipFill>
            <a:blip r:embed="rId6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7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428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429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0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1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058920" y="3090600"/>
            <a:ext cx="55450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96"/>
                </a:solidFill>
                <a:latin typeface="Arial"/>
              </a:rPr>
              <a:t>Supplier’s Engagement Forum</a:t>
            </a:r>
            <a:br>
              <a:rPr sz="3200"/>
            </a:br>
            <a:r>
              <a:rPr b="1" lang="en-US" sz="3200" spc="-1" strike="noStrike">
                <a:solidFill>
                  <a:srgbClr val="003896"/>
                </a:solidFill>
                <a:latin typeface="Arial"/>
              </a:rPr>
              <a:t>Project Portfolio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3058920" y="4092120"/>
            <a:ext cx="554508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Presented by: Clint Fisher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656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ved Projects – Enquiries Remaining (to be issued to Market - Next 6 - 12 mon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5" name="Content Placeholder 3" descr=""/>
          <p:cNvPicPr/>
          <p:nvPr/>
        </p:nvPicPr>
        <p:blipFill>
          <a:blip r:embed="rId1"/>
          <a:stretch/>
        </p:blipFill>
        <p:spPr>
          <a:xfrm>
            <a:off x="755640" y="1436760"/>
            <a:ext cx="7272360" cy="504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36680" y="138240"/>
            <a:ext cx="672768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ved Projects – Enquiries Remaining (to be issued to Market - Next 6 - 12 mon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7" name="Content Placeholder 3" descr=""/>
          <p:cNvPicPr/>
          <p:nvPr/>
        </p:nvPicPr>
        <p:blipFill>
          <a:blip r:embed="rId1"/>
          <a:stretch/>
        </p:blipFill>
        <p:spPr>
          <a:xfrm>
            <a:off x="620640" y="2125800"/>
            <a:ext cx="801072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36680" y="138240"/>
            <a:ext cx="672768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ved Projects – Enquiries Remaining (to be issued to Market - Next 6 - 12 mon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9" name="Content Placeholder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119640" cy="331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72768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ved Projects – Enquiries Remaining (to be issued to Market - Next 6 - 12 mon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1" name="Content Placeholder 5" descr=""/>
          <p:cNvPicPr/>
          <p:nvPr/>
        </p:nvPicPr>
        <p:blipFill>
          <a:blip r:embed="rId1"/>
          <a:stretch/>
        </p:blipFill>
        <p:spPr>
          <a:xfrm>
            <a:off x="674640" y="1436760"/>
            <a:ext cx="7902720" cy="5045040"/>
          </a:xfrm>
          <a:prstGeom prst="rect">
            <a:avLst/>
          </a:prstGeom>
          <a:ln w="0">
            <a:noFill/>
          </a:ln>
        </p:spPr>
      </p:pic>
      <p:sp>
        <p:nvSpPr>
          <p:cNvPr id="144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3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0B12-44C6-401C-92A8-E0B9BA70383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36320" y="166680"/>
            <a:ext cx="672444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ved Projects – Enquiries Remaining (to be issued to Market - Next 6 - 12 mon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5451-F388-4A92-B927-38849D69FA6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447" name="Content Placeholder 8" descr=""/>
          <p:cNvPicPr/>
          <p:nvPr/>
        </p:nvPicPr>
        <p:blipFill>
          <a:blip r:embed="rId1"/>
          <a:stretch/>
        </p:blipFill>
        <p:spPr>
          <a:xfrm>
            <a:off x="1263600" y="2106720"/>
            <a:ext cx="672480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250920" y="166680"/>
            <a:ext cx="67053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ved Projects – Enquiries Remaining (to be issued to Market - Next 6 - 12 mon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9" name=""/>
          <p:cNvGraphicFramePr/>
          <p:nvPr/>
        </p:nvGraphicFramePr>
        <p:xfrm>
          <a:off x="208080" y="1941480"/>
          <a:ext cx="8583480" cy="4079880"/>
        </p:xfrm>
        <a:graphic>
          <a:graphicData uri="http://schemas.openxmlformats.org/drawingml/2006/table">
            <a:tbl>
              <a:tblPr/>
              <a:tblGrid>
                <a:gridCol w="4003560"/>
                <a:gridCol w="457992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s/Services/ Works Description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66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Watershed Strengthening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​</a:t>
                      </a:r>
                      <a:r>
                        <a:rPr b="0" lang="en-ZA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ivil Works-Watershed Strengthening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66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​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​</a:t>
                      </a:r>
                      <a:r>
                        <a:rPr b="0" lang="en-ZA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ird Guards acquisition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66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​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​</a:t>
                      </a: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oshanguve Alternative Routes C.TXTE453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70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​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​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orlim Substation (SS) to Taung CNC radio and Fox615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70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​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Watershed Strengthening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​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ne construction-Works-Watershed Strengthening Dx line deviation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</a:tbl>
          </a:graphicData>
        </a:graphic>
      </p:graphicFrame>
      <p:sp>
        <p:nvSpPr>
          <p:cNvPr id="145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1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42E5-C877-4E57-94DB-3B976C5FF06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Rectangle 8"/>
          <p:cNvSpPr/>
          <p:nvPr/>
        </p:nvSpPr>
        <p:spPr>
          <a:xfrm>
            <a:off x="250920" y="1290600"/>
            <a:ext cx="8497800" cy="482760"/>
          </a:xfrm>
          <a:prstGeom prst="rect">
            <a:avLst/>
          </a:prstGeom>
          <a:solidFill>
            <a:srgbClr val="003896"/>
          </a:solidFill>
          <a:ln w="25560">
            <a:solidFill>
              <a:srgbClr val="002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rthern Portfolio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058920" y="3271320"/>
            <a:ext cx="55450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4" name="Picture 56" descr=""/>
          <p:cNvPicPr/>
          <p:nvPr/>
        </p:nvPicPr>
        <p:blipFill>
          <a:blip r:embed="rId2"/>
          <a:stretch/>
        </p:blipFill>
        <p:spPr>
          <a:xfrm>
            <a:off x="5435640" y="6213600"/>
            <a:ext cx="3197160" cy="31428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3058920" y="4092120"/>
            <a:ext cx="5545080" cy="22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725b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Frans Pooe</cp:lastModifiedBy>
  <dcterms:modified xsi:type="dcterms:W3CDTF">2022-05-26T18:11:38Z</dcterms:modified>
  <cp:revision>39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47</vt:lpwstr>
  </property>
  <property fmtid="{D5CDD505-2E9C-101B-9397-08002B2CF9AE}" pid="3" name="display_urn:schemas-microsoft-com:office:office#Owner">
    <vt:lpwstr>Vic Pretorius</vt:lpwstr>
  </property>
</Properties>
</file>