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Lst>
  <p:sldSz cx="9144000" cy="6858000"/>
  <p:notesSz cx="10018713" cy="6886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p:nvPr/>
        </p:nvSpPr>
        <p:spPr>
          <a:xfrm>
            <a:off x="0" y="0"/>
            <a:ext cx="10018800" cy="688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896"/>
              </a:solidFill>
              <a:latin typeface="Arial"/>
            </a:endParaRPr>
          </a:p>
        </p:txBody>
      </p:sp>
      <p:sp>
        <p:nvSpPr>
          <p:cNvPr id="598" name="PlaceHolder 1"/>
          <p:cNvSpPr>
            <a:spLocks noGrp="1"/>
          </p:cNvSpPr>
          <p:nvPr>
            <p:ph type="hdr"/>
          </p:nvPr>
        </p:nvSpPr>
        <p:spPr>
          <a:xfrm>
            <a:off x="-360" y="-360"/>
            <a:ext cx="4341960" cy="344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599" name="PlaceHolder 2"/>
          <p:cNvSpPr>
            <a:spLocks noGrp="1"/>
          </p:cNvSpPr>
          <p:nvPr>
            <p:ph type="dt" idx="35"/>
          </p:nvPr>
        </p:nvSpPr>
        <p:spPr>
          <a:xfrm>
            <a:off x="5676480" y="-360"/>
            <a:ext cx="4341960" cy="344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600" name="PlaceHolder 3"/>
          <p:cNvSpPr>
            <a:spLocks noGrp="1"/>
          </p:cNvSpPr>
          <p:nvPr>
            <p:ph type="sldImg"/>
          </p:nvPr>
        </p:nvSpPr>
        <p:spPr>
          <a:xfrm>
            <a:off x="3287520" y="515520"/>
            <a:ext cx="3446280" cy="258444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601" name="PlaceHolder 4"/>
          <p:cNvSpPr>
            <a:spLocks noGrp="1"/>
          </p:cNvSpPr>
          <p:nvPr>
            <p:ph type="body"/>
          </p:nvPr>
        </p:nvSpPr>
        <p:spPr>
          <a:xfrm>
            <a:off x="1001520" y="3271320"/>
            <a:ext cx="8016840" cy="31006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2" name="PlaceHolder 5"/>
          <p:cNvSpPr>
            <a:spLocks noGrp="1"/>
          </p:cNvSpPr>
          <p:nvPr>
            <p:ph type="ftr" idx="36"/>
          </p:nvPr>
        </p:nvSpPr>
        <p:spPr>
          <a:xfrm>
            <a:off x="-360" y="6541560"/>
            <a:ext cx="4341960" cy="344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603" name="PlaceHolder 6"/>
          <p:cNvSpPr>
            <a:spLocks noGrp="1"/>
          </p:cNvSpPr>
          <p:nvPr>
            <p:ph type="sldNum" idx="37"/>
          </p:nvPr>
        </p:nvSpPr>
        <p:spPr>
          <a:xfrm>
            <a:off x="5676480" y="6541560"/>
            <a:ext cx="4341960" cy="344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ZA"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CBA2E3-1E0C-4C11-8407-00F2A5B00664}" type="slidenum">
              <a:rPr b="0" lang="en-Z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3287880" y="515880"/>
            <a:ext cx="3446280" cy="2584440"/>
          </a:xfrm>
          <a:prstGeom prst="rect">
            <a:avLst/>
          </a:prstGeom>
          <a:ln w="0">
            <a:noFill/>
          </a:ln>
        </p:spPr>
      </p:sp>
      <p:sp>
        <p:nvSpPr>
          <p:cNvPr id="685" name="PlaceHolder 2"/>
          <p:cNvSpPr>
            <a:spLocks noGrp="1"/>
          </p:cNvSpPr>
          <p:nvPr>
            <p:ph type="body"/>
          </p:nvPr>
        </p:nvSpPr>
        <p:spPr>
          <a:xfrm>
            <a:off x="1001520" y="3271320"/>
            <a:ext cx="8016840" cy="3100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Slide Number Placeholder 3"/>
          <p:cNvSpPr/>
          <p:nvPr/>
        </p:nvSpPr>
        <p:spPr>
          <a:xfrm>
            <a:off x="5676840" y="6541920"/>
            <a:ext cx="4341960" cy="344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974D51-CDFF-468D-BD76-E4FA094EE7FC}"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3AC508-1169-46E1-892B-72F474C2162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833FB04E-E95B-44A3-9D67-6174F25D2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6AD107D-734F-4002-99AE-0870E1B136A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AF543B7-C85F-4C25-9BEF-09EB51DB318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138A79F-E4E3-4C4C-8DB5-8B588F7EE53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33F7E57-959F-43B2-8267-35E31B44B28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6471D66-4EA1-45FA-BCE8-A24ECEBA603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77B7320-FD94-4F2A-AA1C-109B88EEDD8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B40CA0C-31E8-4601-B96F-FFE24469929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83C1120-2AE9-4B11-A54C-0CED5011611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C26DA59-1062-472C-9ED9-703CE907883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6A3DA0F-F64B-4E26-8A56-A3F827AD2B9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8FB1362A-8533-4F86-9A39-141DD3114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8B8A52A-324F-44E2-A9A1-4276550E316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7E6B7CE-8E6F-44F7-82BE-DD373FDB98D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FCA7026-4F32-44F3-9F33-8357D293342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F926AB4-7E7F-4055-BF47-C531F737173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7221CB3-C3AB-4951-8212-FA8C453C9E2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601CC3D-E2CD-4AA1-8DC3-8BE1B28D67E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0F5A06A-42F4-49D9-B3B1-2C5BA302EF8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0612093-1FC7-4493-814F-0B34C51AE86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5B7848A-BC5D-49EB-A82F-17FD40DA97A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B278081-7A4F-4255-8647-976036874AC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91F7D1DB-A8D7-4491-ABC1-4DB836D8FCE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494B86F-A7D6-4B5D-B1C0-720E84169CF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7241CFE-4BD1-47D0-8C3D-BD420F9DB55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BC871E9-3B79-4F62-9E43-65680743302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F9E4F11-88A5-489E-84CB-F494FFDBD87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E3E2355-790A-4E5F-AE87-08BE7362579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F62A0A8-4AE4-4282-B973-FFD834A520E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8354811-3EAF-46FA-9BCB-B0AD79D95E3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08044A8-C8EF-4AAC-B03A-76872BC6D6D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068A26B-7E91-4941-A581-AF9B88CA3A9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57EAE4D-ABB1-4579-A039-1C751BD554D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CD26F50-6457-47A5-A314-7951B3C7073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1BD5815-398E-4690-9DFB-B34445834BE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C8F4F4E-2EDC-4505-A915-329B081E976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9618B2A-D0D3-4FCD-B339-379DC75ADD1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CFA5E49-E5D8-43D7-8491-DB23FD9EEEB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30782F4-E5F7-4C43-9800-3C3CC5A0A2E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41940BA-B8F9-4554-A4F8-B4E423928CB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7BB41B6-9B62-451A-A98E-41BEABBCF75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0A28CB6-284A-407D-BC8E-B5125FF2CD6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419B5B3-11D2-4EBE-829C-B2CADBD491C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8E241B4-2308-4DF6-9151-74BA9A7E11B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12FFA7F-778A-4FC6-8F3A-8872C1E1F3A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4DED942-C049-40D7-B829-FC32DB69F93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514477E-83B2-4E74-B525-8F1FBE1BA39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C62881D-32AC-4883-A954-E0A2D79B128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78179604-C39C-4CD7-956F-F258461A15C9}"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72612B5A-A810-41D1-89E5-3E22298F13E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30512C8D-DCBB-42D8-A0A2-1A475B7CDF4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4485227C-54D1-4667-AC00-7970156AB68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3082C8B1-914F-41AC-BFC0-928537A28B2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C94E355C-D256-4A31-9B1D-F4CC9351243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B8EECC28-00DD-4DB0-9033-864DD77712C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1C143B7F-0861-4765-A285-E99B1F445B4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8A678D9E-AB46-4B03-A117-34DCCB6A0D6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196D5419-35B9-4192-83DA-ED598F94F7B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B6C536EE-935C-4697-876D-C60333ADC96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0FF8622A-D10E-46E1-8333-0A3F3C28C4CE}"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9D658BCD-31D6-4456-90D4-867F5CB2B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46BACB-1D1C-49EE-8FAE-4AC9FFCF1B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8E178E-D357-4496-BDF6-AB889F2F48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DE0918-8530-419E-8FA7-0122DCCF6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A3C47-D165-4CB4-8448-3F8CDA244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96265B-86BD-4F50-9CA7-A785953046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6D49C0E6-4F32-4531-915B-F203DCDF1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72372D-D608-43AB-B5C3-D129572A39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EF32CD-6B0A-492B-85F7-902C17F9E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E12473-787D-420D-93F1-8A7F2A1CC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26D00B-A1CC-4AFE-84B8-75DB65510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28E96E-6075-45BA-98CD-121748AE8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34C1B1-9C33-4A4B-9924-464AFE5756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4708EC-BA18-4FB6-858F-288BA00731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C1CB67C-17EB-4FF1-B033-D1572014992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72334A-637F-4276-9305-38D3E0AAE5F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8D36DDF-F451-482C-8330-2A56C8AF54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711BDE41-2E8C-4F88-89E5-E216C8E40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7D115B-2600-4118-A247-0B733CB4076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028521E-BCB5-4C24-A9F0-D48D9EED54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B05409-7F2F-41FB-96EB-DC85204C645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CE4384-A6E5-4319-B8ED-BB01E21BC6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623FCAA-DD52-48EE-B0FB-8EFD060D08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DF7525-0146-4816-9D55-51AC6974AF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0DFDAA-3884-4F41-BC1D-7A8E18B9985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E052F9F-49E7-4346-884B-A50E51123A0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F2A6E41-2A4B-44E6-A0D2-18B3642601F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C214A94-1EE3-4185-BB98-20D5F4E0B1A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4F23CBF1-FFE7-4782-8289-F619F7D97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5DA4BAC-02EE-4B2E-A89F-F708F2D006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3817FC1-B221-481E-981A-2F8D080A0C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96BB18-2F63-4C15-973D-6EDD2E681B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232F84E-45DF-46CC-9BEF-6D08AAA737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0DE8422-DFB6-44BE-B1F5-0C89BA1E35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E8DB4A-324E-4E2E-8837-599D1A7BF6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810F08-FFF9-4E41-9F4E-4DABD4553A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51FF4C8-00DB-4FDB-AE15-530F5F4F8D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0B95680-53C9-4B6C-B5A7-3674083A57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82112F2-5B06-4FAF-B57C-A49C280CB30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A0BD1915-402A-42A0-B855-1726FE01C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C8D1FE7-1A54-43AD-A56A-71BEED951B8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3A21374-1329-4B7A-A917-2AB3228BB84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08BFA4F-7274-4C99-B709-44C07D91596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6F0BD2E-0E8D-474F-AFAE-7524D7CB684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A26A791-6DE8-4D01-A41E-FE329273F8D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D21F0E5-C7E4-4AAD-92B6-3C692B7634F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AC5CDBB-DE4C-4F5B-8ED8-537D5272C6F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B486514-A56E-41A1-9982-FAE69865554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DFF5630-722F-40F6-B1EB-E578F7C5559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AD66230-B3EC-408E-ACB4-A34D8659682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5E462359-443F-4855-8387-D09B5B3E8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CD3FA7C-6463-429D-981C-E31EDB63D49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F78CC8B-5F3E-4324-AD27-586884BD510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2703B19-1289-45D7-824B-1244755C4E9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9D76B70-EB83-4E76-AE44-2EBA6ED9822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9BDEB34-D0F8-4419-A0E2-DA6733B25DF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0D13359-AE0D-42FF-BB07-88EABD48026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3DFDC74-9F00-4872-BEFF-7B0CAAF784E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AA80F59-F7E0-4D03-A896-C4A629B93FF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5DC5DCB-3B1B-4213-A211-BDE2C610BD6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B214F6C-C005-45DD-8D04-1E91D258E62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52CFA5EB-F6F5-4E35-BF9A-940B54394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75EA024-3BD6-4F30-AFB9-A76080973CF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33E7336-34A1-468F-9B8F-BDEF9E72312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468CDA1-FFA5-4E7B-BBFC-E0234196E68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A6DD915-7CF1-40F3-8C46-358067984D4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E783416-1A39-4440-BA44-8162AD7E1AB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1669D92-4CA9-43B9-9D1C-47AE479DDEA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D07FD22-E72C-45EE-91C7-78B1084CD13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622E39A-4FD8-456F-9507-0996A353D75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22361BC-8454-4994-B0F6-2DB6E7A0581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8AC4D54-E5DB-437C-83AF-4D6F3D51510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BB3A476A-C774-4EA5-BD4C-EFC862E1A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B700B3E-A744-4F8C-A88B-BAC232D4BF7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D2F6B73-836F-482B-9A3A-CF63606827D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1BC2A0C-158C-4D57-96B0-91464350D70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27F2F95-1087-47D8-B963-404E286CBC2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5284869-3BFA-4856-8FD5-6EDAB3EB520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F00C8C9-5F74-456B-A61E-709AE1536E9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18339DB-CD9F-4698-8926-9998A497557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988DF32-6682-473C-92A7-256976566A7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EF5DDF0-6CEA-4C8D-9515-ED9B971FFD1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5D26CC0-43C0-43CF-9618-9940A713D20D}"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DD55-A792-4203-B600-FE5C85C02EA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40A0-2767-45D4-AB0C-06E885BF1236}"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7CF9-9535-49E2-A71E-DDE9F78A486F}"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4B64-5057-4D09-8235-252F5FB60ED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0656-250A-4754-8334-CCA9F48E83A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3129-76A4-46D5-90CF-565C5452EE2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C6EC-79D4-44BA-A1ED-23749FA0B03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F8A6-B315-4CF6-80F3-1132E95799F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1EC5-7B09-427B-BECA-1321CC0232A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9DED-1C6B-4901-BA18-CD1B7A55CE0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431C-A71C-442E-A880-E24A8911F298}"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AC03-0B04-407D-B329-B2C93EFC99F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05" name="Group 162"/>
          <p:cNvGrpSpPr/>
          <p:nvPr/>
        </p:nvGrpSpPr>
        <p:grpSpPr>
          <a:xfrm>
            <a:off x="-4680" y="0"/>
            <a:ext cx="9148680" cy="6858000"/>
            <a:chOff x="-4680" y="0"/>
            <a:chExt cx="9148680" cy="6858000"/>
          </a:xfrm>
        </p:grpSpPr>
        <p:pic>
          <p:nvPicPr>
            <p:cNvPr id="606" name="Picture 23" descr="dd"/>
            <p:cNvPicPr/>
            <p:nvPr/>
          </p:nvPicPr>
          <p:blipFill>
            <a:blip r:embed="rId1"/>
            <a:stretch/>
          </p:blipFill>
          <p:spPr>
            <a:xfrm>
              <a:off x="-4680" y="0"/>
              <a:ext cx="1825560" cy="6858000"/>
            </a:xfrm>
            <a:prstGeom prst="rect">
              <a:avLst/>
            </a:prstGeom>
            <a:ln w="0">
              <a:noFill/>
            </a:ln>
          </p:spPr>
        </p:pic>
        <p:sp>
          <p:nvSpPr>
            <p:cNvPr id="607"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08" name="Picture 161" descr="logo small"/>
            <p:cNvPicPr/>
            <p:nvPr/>
          </p:nvPicPr>
          <p:blipFill>
            <a:blip r:embed="rId2"/>
            <a:stretch/>
          </p:blipFill>
          <p:spPr>
            <a:xfrm>
              <a:off x="6489720" y="517680"/>
              <a:ext cx="2146320" cy="544320"/>
            </a:xfrm>
            <a:prstGeom prst="rect">
              <a:avLst/>
            </a:prstGeom>
            <a:ln w="0">
              <a:noFill/>
            </a:ln>
          </p:spPr>
        </p:pic>
      </p:grpSp>
      <p:grpSp>
        <p:nvGrpSpPr>
          <p:cNvPr id="609" name="Group 155"/>
          <p:cNvGrpSpPr/>
          <p:nvPr/>
        </p:nvGrpSpPr>
        <p:grpSpPr>
          <a:xfrm>
            <a:off x="257040" y="1201680"/>
            <a:ext cx="2482920" cy="2444760"/>
            <a:chOff x="257040" y="1201680"/>
            <a:chExt cx="2482920" cy="2444760"/>
          </a:xfrm>
        </p:grpSpPr>
        <p:sp>
          <p:nvSpPr>
            <p:cNvPr id="610"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1"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2"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3"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4"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5" name="Oval 102"/>
          <p:cNvGrpSpPr/>
          <p:nvPr/>
        </p:nvGrpSpPr>
        <p:grpSpPr>
          <a:xfrm>
            <a:off x="438120" y="1359000"/>
            <a:ext cx="2158920" cy="2176200"/>
            <a:chOff x="438120" y="1359000"/>
            <a:chExt cx="2158920" cy="2176200"/>
          </a:xfrm>
        </p:grpSpPr>
        <p:pic>
          <p:nvPicPr>
            <p:cNvPr id="616" name="Oval 102" descr=""/>
            <p:cNvPicPr/>
            <p:nvPr/>
          </p:nvPicPr>
          <p:blipFill>
            <a:blip r:embed="rId3"/>
            <a:stretch/>
          </p:blipFill>
          <p:spPr>
            <a:xfrm>
              <a:off x="438120" y="1359000"/>
              <a:ext cx="2158920" cy="2176200"/>
            </a:xfrm>
            <a:prstGeom prst="rect">
              <a:avLst/>
            </a:prstGeom>
            <a:ln w="0">
              <a:noFill/>
            </a:ln>
          </p:spPr>
        </p:pic>
        <p:sp>
          <p:nvSpPr>
            <p:cNvPr id="617"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8" name="Group 156"/>
          <p:cNvGrpSpPr/>
          <p:nvPr/>
        </p:nvGrpSpPr>
        <p:grpSpPr>
          <a:xfrm>
            <a:off x="171360" y="1201680"/>
            <a:ext cx="2643120" cy="2494080"/>
            <a:chOff x="171360" y="1201680"/>
            <a:chExt cx="2643120" cy="2494080"/>
          </a:xfrm>
        </p:grpSpPr>
        <p:sp>
          <p:nvSpPr>
            <p:cNvPr id="619"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0"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1"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22" name="Group 146"/>
          <p:cNvGrpSpPr/>
          <p:nvPr/>
        </p:nvGrpSpPr>
        <p:grpSpPr>
          <a:xfrm>
            <a:off x="912960" y="620640"/>
            <a:ext cx="1284120" cy="1260720"/>
            <a:chOff x="912960" y="620640"/>
            <a:chExt cx="1284120" cy="1260720"/>
          </a:xfrm>
        </p:grpSpPr>
        <p:sp>
          <p:nvSpPr>
            <p:cNvPr id="623"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4"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5"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6"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7"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8"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9"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0"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31" name="Oval 118"/>
          <p:cNvSpPr/>
          <p:nvPr/>
        </p:nvSpPr>
        <p:spPr>
          <a:xfrm>
            <a:off x="1004760" y="706320"/>
            <a:ext cx="1111320" cy="11131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32" name="Group 145"/>
          <p:cNvGrpSpPr/>
          <p:nvPr/>
        </p:nvGrpSpPr>
        <p:grpSpPr>
          <a:xfrm>
            <a:off x="863640" y="620640"/>
            <a:ext cx="1369800" cy="1284480"/>
            <a:chOff x="863640" y="620640"/>
            <a:chExt cx="1369800" cy="1284480"/>
          </a:xfrm>
        </p:grpSpPr>
        <p:sp>
          <p:nvSpPr>
            <p:cNvPr id="633"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4"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5"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36" name="Group 157"/>
          <p:cNvGrpSpPr/>
          <p:nvPr/>
        </p:nvGrpSpPr>
        <p:grpSpPr>
          <a:xfrm>
            <a:off x="331920" y="3090960"/>
            <a:ext cx="2074680" cy="2038320"/>
            <a:chOff x="331920" y="3090960"/>
            <a:chExt cx="2074680" cy="2038320"/>
          </a:xfrm>
        </p:grpSpPr>
        <p:sp>
          <p:nvSpPr>
            <p:cNvPr id="63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43" name="Oval 128"/>
          <p:cNvSpPr/>
          <p:nvPr/>
        </p:nvSpPr>
        <p:spPr>
          <a:xfrm>
            <a:off x="482760" y="3227400"/>
            <a:ext cx="1801800" cy="181440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44" name="Group 158"/>
          <p:cNvGrpSpPr/>
          <p:nvPr/>
        </p:nvGrpSpPr>
        <p:grpSpPr>
          <a:xfrm>
            <a:off x="257040" y="3090960"/>
            <a:ext cx="2211480" cy="2087640"/>
            <a:chOff x="257040" y="3090960"/>
            <a:chExt cx="2211480" cy="2087640"/>
          </a:xfrm>
        </p:grpSpPr>
        <p:sp>
          <p:nvSpPr>
            <p:cNvPr id="645"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6"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7"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8" name="Group 159"/>
          <p:cNvGrpSpPr/>
          <p:nvPr/>
        </p:nvGrpSpPr>
        <p:grpSpPr>
          <a:xfrm>
            <a:off x="900000" y="4684680"/>
            <a:ext cx="1717920" cy="1692360"/>
            <a:chOff x="900000" y="4684680"/>
            <a:chExt cx="1717920" cy="1692360"/>
          </a:xfrm>
        </p:grpSpPr>
        <p:sp>
          <p:nvSpPr>
            <p:cNvPr id="649"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0"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1"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2"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3"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4"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5" name="Oval 138"/>
          <p:cNvGrpSpPr/>
          <p:nvPr/>
        </p:nvGrpSpPr>
        <p:grpSpPr>
          <a:xfrm>
            <a:off x="1011240" y="4791240"/>
            <a:ext cx="1512720" cy="1517400"/>
            <a:chOff x="1011240" y="4791240"/>
            <a:chExt cx="1512720" cy="1517400"/>
          </a:xfrm>
        </p:grpSpPr>
        <p:pic>
          <p:nvPicPr>
            <p:cNvPr id="656" name="Oval 138" descr=""/>
            <p:cNvPicPr/>
            <p:nvPr/>
          </p:nvPicPr>
          <p:blipFill>
            <a:blip r:embed="rId6"/>
            <a:stretch/>
          </p:blipFill>
          <p:spPr>
            <a:xfrm>
              <a:off x="1011240" y="4791240"/>
              <a:ext cx="1512720" cy="1517400"/>
            </a:xfrm>
            <a:prstGeom prst="rect">
              <a:avLst/>
            </a:prstGeom>
            <a:ln w="0">
              <a:noFill/>
            </a:ln>
          </p:spPr>
        </p:pic>
        <p:sp>
          <p:nvSpPr>
            <p:cNvPr id="657"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8" name="Group 160"/>
          <p:cNvGrpSpPr/>
          <p:nvPr/>
        </p:nvGrpSpPr>
        <p:grpSpPr>
          <a:xfrm>
            <a:off x="838080" y="4684680"/>
            <a:ext cx="1828800" cy="1728720"/>
            <a:chOff x="838080" y="4684680"/>
            <a:chExt cx="1828800" cy="1728720"/>
          </a:xfrm>
        </p:grpSpPr>
        <p:sp>
          <p:nvSpPr>
            <p:cNvPr id="659"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0"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1"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62" name="Rectangle 2"/>
          <p:cNvSpPr/>
          <p:nvPr/>
        </p:nvSpPr>
        <p:spPr>
          <a:xfrm>
            <a:off x="2624040" y="2936880"/>
            <a:ext cx="6100920" cy="2130480"/>
          </a:xfrm>
          <a:prstGeom prst="rect">
            <a:avLst/>
          </a:prstGeom>
          <a:noFill/>
          <a:ln w="0">
            <a:noFill/>
          </a:ln>
        </p:spPr>
        <p:style>
          <a:lnRef idx="0"/>
          <a:fillRef idx="0"/>
          <a:effectRef idx="0"/>
          <a:fontRef idx="minor"/>
        </p:style>
        <p:txBody>
          <a:bodyPr lIns="90000" rIns="90000" tIns="46800" bIns="46800" anchor="b">
            <a:normAutofit fontScale="19000"/>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89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Geotechnical assessment of Carmel-</a:t>
            </a: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Pluto at North West Transmission </a:t>
            </a: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Presented by </a:t>
            </a: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Phuti Ratau </a:t>
            </a: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23 May 2022</a:t>
            </a:r>
            <a:endParaRPr b="0" lang="en-US" sz="24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requirements fall under Contractual Creteria</a:t>
            </a:r>
            <a:endParaRPr b="0" lang="en-US" sz="2400" spc="-1" strike="noStrike">
              <a:solidFill>
                <a:srgbClr val="ffffff"/>
              </a:solidFill>
              <a:latin typeface="Arial"/>
            </a:endParaRPr>
          </a:p>
        </p:txBody>
      </p:sp>
      <p:sp>
        <p:nvSpPr>
          <p:cNvPr id="664" name=""/>
          <p:cNvSpPr txBox="1"/>
          <p:nvPr/>
        </p:nvSpPr>
        <p:spPr>
          <a:xfrm>
            <a:off x="436680" y="1436760"/>
            <a:ext cx="8378640" cy="504504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896"/>
                </a:solidFill>
                <a:uFillTx/>
                <a:latin typeface="Arial"/>
              </a:rPr>
              <a:t>Objective Criteria: </a:t>
            </a:r>
            <a:endParaRPr b="0" lang="en-US" sz="2000" spc="-1" strike="noStrike">
              <a:solidFill>
                <a:srgbClr val="003896"/>
              </a:solidFill>
              <a:latin typeface="Arial"/>
            </a:endParaRPr>
          </a:p>
          <a:p>
            <a:pPr algn="just">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No scoring during Contractual Criteria, just an indication that the supplier has met the minimum requirements listed under contractual Criteria. The suppliers evaluated ONLY those that met all the functional criteria should there be any outstanding information, the buyer will be informed to request the outstanding information from the supplier and on resubmission must be within 5 days, the Quality rep will indicate if  the information is acceptable  or not.</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r>
              <a:rPr b="1" lang="en-US" sz="2000" spc="-1" strike="noStrike">
                <a:solidFill>
                  <a:srgbClr val="003896"/>
                </a:solidFill>
                <a:latin typeface="Arial"/>
              </a:rPr>
              <a:t>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16 May 2016</a:t>
            </a:r>
            <a:endParaRPr b="0" lang="en-US" sz="1000" spc="-1" strike="noStrike">
              <a:solidFill>
                <a:srgbClr val="003896"/>
              </a:solidFill>
              <a:latin typeface="Arial"/>
            </a:endParaRPr>
          </a:p>
        </p:txBody>
      </p:sp>
      <p:sp>
        <p:nvSpPr>
          <p:cNvPr id="666"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E9DD8-96F1-41F8-ADFD-716DDF967C7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16 May 2016</a:t>
            </a:r>
            <a:endParaRPr b="0" lang="en-US" sz="1000" spc="-1" strike="noStrike">
              <a:solidFill>
                <a:srgbClr val="003896"/>
              </a:solidFill>
              <a:latin typeface="Arial"/>
            </a:endParaRPr>
          </a:p>
        </p:txBody>
      </p:sp>
      <p:sp>
        <p:nvSpPr>
          <p:cNvPr id="668"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6E8A-873C-4788-964A-092CABC8A33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9" name="PlaceHolder 1"/>
          <p:cNvSpPr>
            <a:spLocks noGrp="1"/>
          </p:cNvSpPr>
          <p:nvPr>
            <p:ph type="title"/>
          </p:nvPr>
        </p:nvSpPr>
        <p:spPr>
          <a:xfrm>
            <a:off x="436320" y="166680"/>
            <a:ext cx="687204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uality requirements </a:t>
            </a:r>
            <a:endParaRPr b="0" lang="en-US" sz="2400" spc="-1" strike="noStrike">
              <a:solidFill>
                <a:srgbClr val="ffffff"/>
              </a:solidFill>
              <a:latin typeface="Arial"/>
            </a:endParaRPr>
          </a:p>
        </p:txBody>
      </p:sp>
      <p:sp>
        <p:nvSpPr>
          <p:cNvPr id="670" name="PlaceHolder 2"/>
          <p:cNvSpPr>
            <a:spLocks noGrp="1"/>
          </p:cNvSpPr>
          <p:nvPr>
            <p:ph/>
          </p:nvPr>
        </p:nvSpPr>
        <p:spPr>
          <a:xfrm>
            <a:off x="324000" y="1196640"/>
            <a:ext cx="8378640" cy="5256360"/>
          </a:xfrm>
          <a:prstGeom prst="rect">
            <a:avLst/>
          </a:prstGeom>
          <a:noFill/>
          <a:ln w="0">
            <a:noFill/>
          </a:ln>
        </p:spPr>
        <p:txBody>
          <a:bodyPr anchor="t">
            <a:normAutofit/>
          </a:bodyPr>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QM 58 Specification</a:t>
            </a: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ection A consists of two options: </a:t>
            </a: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Option 1</a:t>
            </a:r>
            <a:r>
              <a:rPr b="1" lang="en-US" sz="2000" spc="-1" strike="noStrike">
                <a:solidFill>
                  <a:srgbClr val="003896"/>
                </a:solidFill>
                <a:latin typeface="Arial"/>
              </a:rPr>
              <a:t> </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SO certificat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relevant to the scope of work</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an accredited certification body.</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Not expired.  </a:t>
            </a:r>
            <a:endParaRPr b="0" lang="en-US" sz="20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p>
            <a:pPr lvl="1" marL="7174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6343-57E4-4B8C-8B11-12A8A069774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7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P 3282 – Quality requirements (30)</a:t>
            </a:r>
            <a:endParaRPr b="0" lang="en-US" sz="2400" spc="-1" strike="noStrike">
              <a:solidFill>
                <a:srgbClr val="ffffff"/>
              </a:solidFill>
              <a:latin typeface="Arial"/>
            </a:endParaRPr>
          </a:p>
        </p:txBody>
      </p:sp>
      <p:sp>
        <p:nvSpPr>
          <p:cNvPr id="673" name="PlaceHolder 2"/>
          <p:cNvSpPr>
            <a:spLocks noGrp="1"/>
          </p:cNvSpPr>
          <p:nvPr>
            <p:ph/>
          </p:nvPr>
        </p:nvSpPr>
        <p:spPr>
          <a:xfrm>
            <a:off x="324000" y="1052280"/>
            <a:ext cx="8378640" cy="5638680"/>
          </a:xfrm>
          <a:prstGeom prst="rect">
            <a:avLst/>
          </a:prstGeom>
          <a:noFill/>
          <a:ln w="0">
            <a:noFill/>
          </a:ln>
        </p:spPr>
        <p:txBody>
          <a:bodyPr anchor="t">
            <a:normAutofit/>
          </a:bodyPr>
          <a:p>
            <a:pPr lvl="1" marL="44460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896"/>
                </a:solidFill>
                <a:uFillTx/>
                <a:latin typeface="Arial"/>
              </a:rPr>
              <a:t>Option 2</a:t>
            </a:r>
            <a:r>
              <a:rPr b="1" lang="en-US" sz="1800" spc="-1" strike="noStrike">
                <a:solidFill>
                  <a:srgbClr val="003896"/>
                </a:solidFill>
                <a:latin typeface="Arial"/>
              </a:rPr>
              <a:t> </a:t>
            </a:r>
            <a:endParaRPr b="0" lang="en-US" sz="1800" spc="-1" strike="noStrike">
              <a:solidFill>
                <a:srgbClr val="003896"/>
              </a:solidFill>
              <a:latin typeface="Arial"/>
            </a:endParaRPr>
          </a:p>
          <a:p>
            <a:pPr lvl="1" marL="444600" indent="0">
              <a:lnSpc>
                <a:spcPct val="1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Objective evidence of a Quality Management system (compliant to ISO 9001 2015) it will include the following</a:t>
            </a:r>
            <a:r>
              <a:rPr b="0" lang="en-US" sz="1800" spc="-1" strike="noStrike">
                <a:solidFill>
                  <a:srgbClr val="003896"/>
                </a:solidFill>
                <a:latin typeface="Arial"/>
              </a:rPr>
              <a:t>:</a:t>
            </a:r>
            <a:endParaRPr b="0" lang="en-US" sz="18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QMS Manual or a document that defines and describes the QMS and its scope </a:t>
            </a:r>
            <a:endParaRPr b="0" lang="en-US" sz="16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Quality Policy  and Objectives Approved by top management.</a:t>
            </a:r>
            <a:r>
              <a:rPr b="0" lang="en-US" sz="1600" spc="-1" strike="noStrike">
                <a:solidFill>
                  <a:srgbClr val="003896"/>
                </a:solidFill>
                <a:latin typeface="Arial"/>
              </a:rPr>
              <a:t>	</a:t>
            </a:r>
            <a:endParaRPr b="0" lang="en-US" sz="16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Control of documented information</a:t>
            </a:r>
            <a:r>
              <a:rPr b="0" lang="en-US" sz="1600" spc="-1" strike="noStrike">
                <a:solidFill>
                  <a:srgbClr val="003896"/>
                </a:solidFill>
                <a:latin typeface="Arial"/>
              </a:rPr>
              <a:t>	</a:t>
            </a:r>
            <a:r>
              <a:rPr b="0" lang="en-US" sz="1600" spc="-1" strike="noStrike">
                <a:solidFill>
                  <a:srgbClr val="003896"/>
                </a:solidFill>
                <a:latin typeface="Arial"/>
              </a:rPr>
              <a:t>	</a:t>
            </a:r>
            <a:endParaRPr b="0" lang="en-US" sz="16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Documented information for Control of nonconforming outputs</a:t>
            </a:r>
            <a:endParaRPr b="0" lang="en-US" sz="16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Documented information for Nonconformity and Corrective action </a:t>
            </a:r>
            <a:endParaRPr b="0" lang="en-US" sz="16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 </a:t>
            </a:r>
            <a:r>
              <a:rPr b="0" lang="en-US" sz="1600" spc="-1" strike="noStrike">
                <a:solidFill>
                  <a:srgbClr val="003896"/>
                </a:solidFill>
                <a:latin typeface="Arial"/>
              </a:rPr>
              <a:t>Documented information for Internal audit </a:t>
            </a:r>
            <a:r>
              <a:rPr b="0" lang="en-US" sz="1600" spc="-1" strike="noStrike">
                <a:solidFill>
                  <a:srgbClr val="003896"/>
                </a:solidFill>
                <a:latin typeface="Arial"/>
              </a:rPr>
              <a:t>	</a:t>
            </a:r>
            <a:r>
              <a:rPr b="0" lang="en-US" sz="1600" spc="-1" strike="noStrike">
                <a:solidFill>
                  <a:srgbClr val="003896"/>
                </a:solidFill>
                <a:latin typeface="Arial"/>
              </a:rPr>
              <a:t>	</a:t>
            </a:r>
            <a:r>
              <a:rPr b="0" lang="en-US" sz="1600" spc="-1" strike="noStrike">
                <a:solidFill>
                  <a:srgbClr val="003896"/>
                </a:solidFill>
                <a:latin typeface="Arial"/>
              </a:rPr>
              <a:t>	</a:t>
            </a:r>
            <a:r>
              <a:rPr b="0" lang="en-US" sz="1600" spc="-1" strike="noStrike">
                <a:solidFill>
                  <a:srgbClr val="003896"/>
                </a:solidFill>
                <a:latin typeface="Arial"/>
              </a:rPr>
              <a:t>	</a:t>
            </a:r>
            <a:endParaRPr b="0" lang="en-US" sz="1600" spc="-1" strike="noStrike">
              <a:solidFill>
                <a:srgbClr val="003896"/>
              </a:solidFill>
              <a:latin typeface="Arial"/>
            </a:endParaRPr>
          </a:p>
          <a:p>
            <a:pPr lvl="1" marL="44460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16 may 2016</a:t>
            </a:r>
            <a:endParaRPr b="0" lang="en-US" sz="1000" spc="-1" strike="noStrike">
              <a:solidFill>
                <a:srgbClr val="003896"/>
              </a:solidFill>
              <a:latin typeface="Arial"/>
            </a:endParaRPr>
          </a:p>
        </p:txBody>
      </p:sp>
      <p:sp>
        <p:nvSpPr>
          <p:cNvPr id="675"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F92E-4493-43A5-B11B-50BCDB01ED1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7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uality requirements</a:t>
            </a:r>
            <a:endParaRPr b="0" lang="en-US" sz="2400" spc="-1" strike="noStrike">
              <a:solidFill>
                <a:srgbClr val="ffffff"/>
              </a:solidFill>
              <a:latin typeface="Arial"/>
            </a:endParaRPr>
          </a:p>
        </p:txBody>
      </p:sp>
      <p:sp>
        <p:nvSpPr>
          <p:cNvPr id="677" name="PlaceHolder 2"/>
          <p:cNvSpPr>
            <a:spLocks noGrp="1"/>
          </p:cNvSpPr>
          <p:nvPr>
            <p:ph/>
          </p:nvPr>
        </p:nvSpPr>
        <p:spPr>
          <a:xfrm>
            <a:off x="669960" y="1436400"/>
            <a:ext cx="8378640" cy="4079880"/>
          </a:xfrm>
          <a:prstGeom prst="rect">
            <a:avLst/>
          </a:prstGeom>
          <a:noFill/>
          <a:ln w="0">
            <a:noFill/>
          </a:ln>
        </p:spPr>
        <p:txBody>
          <a:bodyPr anchor="t">
            <a:normAutofit/>
          </a:bodyPr>
          <a:p>
            <a:pPr lvl="1" marL="444600" indent="0" algn="just">
              <a:lnSpc>
                <a:spcPct val="15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ECTION B Evidence of QMS in operation (Tender Quality Requirements -Ref QM-58 /240-105658000):</a:t>
            </a:r>
            <a:endParaRPr b="0" lang="en-US" sz="20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Documented information for defined roles, responsibilities and authorities.</a:t>
            </a:r>
            <a:endParaRPr b="0" lang="en-US" sz="16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Documented information for Control of Externally Provided Processes, Products and Services.</a:t>
            </a:r>
            <a:endParaRPr b="0" lang="en-US" sz="1600" spc="-1" strike="noStrike">
              <a:solidFill>
                <a:srgbClr val="003896"/>
              </a:solidFill>
              <a:latin typeface="Arial"/>
            </a:endParaRPr>
          </a:p>
          <a:p>
            <a:pPr lvl="2" marL="1076400" indent="-179640" algn="just">
              <a:lnSpc>
                <a:spcPct val="150000"/>
              </a:lnSpc>
              <a:spcBef>
                <a:spcPts val="2001"/>
              </a:spcBef>
              <a:buClr>
                <a:srgbClr val="8c7f6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896"/>
                </a:solidFill>
                <a:latin typeface="Arial"/>
              </a:rPr>
              <a:t>Records of Management Review meetings (minutes, attendance registers etc)</a:t>
            </a:r>
            <a:endParaRPr b="0" lang="en-US" sz="16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725b"/>
                </a:solidFill>
                <a:latin typeface="Arial"/>
              </a:rPr>
              <a:t>16 may 2016</a:t>
            </a:r>
            <a:endParaRPr b="0" lang="en-US" sz="1000" spc="-1" strike="noStrike">
              <a:solidFill>
                <a:srgbClr val="003896"/>
              </a:solidFill>
              <a:latin typeface="Arial"/>
            </a:endParaRPr>
          </a:p>
        </p:txBody>
      </p:sp>
      <p:sp>
        <p:nvSpPr>
          <p:cNvPr id="679"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9ECC-0447-4104-9114-4F2B7A68EF6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8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uality requirements</a:t>
            </a:r>
            <a:endParaRPr b="0" lang="en-US" sz="2400" spc="-1" strike="noStrike">
              <a:solidFill>
                <a:srgbClr val="ffffff"/>
              </a:solidFill>
              <a:latin typeface="Arial"/>
            </a:endParaRPr>
          </a:p>
        </p:txBody>
      </p:sp>
      <p:sp>
        <p:nvSpPr>
          <p:cNvPr id="681" name="PlaceHolder 2"/>
          <p:cNvSpPr>
            <a:spLocks noGrp="1"/>
          </p:cNvSpPr>
          <p:nvPr>
            <p:ph/>
          </p:nvPr>
        </p:nvSpPr>
        <p:spPr>
          <a:xfrm>
            <a:off x="669960" y="1436400"/>
            <a:ext cx="8378640" cy="4079880"/>
          </a:xfrm>
          <a:prstGeom prst="rect">
            <a:avLst/>
          </a:prstGeom>
          <a:noFill/>
          <a:ln w="0">
            <a:noFill/>
          </a:ln>
        </p:spPr>
        <p:txBody>
          <a:bodyPr anchor="t">
            <a:normAutofit/>
          </a:bodyPr>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ection C </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Contract Quality Plan Requirements</a:t>
            </a: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ection D</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Template of Inspection and Test Plan (ITP)</a:t>
            </a: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ection E</a:t>
            </a:r>
            <a:endParaRPr b="0" lang="en-US" sz="2000" spc="-1" strike="noStrike">
              <a:solidFill>
                <a:srgbClr val="003896"/>
              </a:solidFill>
              <a:latin typeface="Arial"/>
            </a:endParaRPr>
          </a:p>
          <a:p>
            <a:pPr>
              <a:lnSpc>
                <a:spcPct val="90000"/>
              </a:lnSpc>
              <a:spcBef>
                <a:spcPts val="2500"/>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Form A is completed and signed.</a:t>
            </a: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58920" y="3271320"/>
            <a:ext cx="5545080" cy="676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96"/>
                </a:solidFill>
                <a:latin typeface="Arial"/>
              </a:rPr>
              <a:t>Thank you</a:t>
            </a:r>
            <a:endParaRPr b="0" lang="en-US" sz="4000" spc="-1" strike="noStrike">
              <a:solidFill>
                <a:srgbClr val="ffffff"/>
              </a:solidFill>
              <a:latin typeface="Arial"/>
            </a:endParaRPr>
          </a:p>
        </p:txBody>
      </p:sp>
      <p:pic>
        <p:nvPicPr>
          <p:cNvPr id="683" name="Picture 56" descr=""/>
          <p:cNvPicPr/>
          <p:nvPr/>
        </p:nvPicPr>
        <p:blipFill>
          <a:blip r:embed="rId2"/>
          <a:stretch/>
        </p:blipFill>
        <p:spPr>
          <a:xfrm>
            <a:off x="5435640" y="6213600"/>
            <a:ext cx="3197160" cy="31428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Proscoviour Ratsethana</cp:lastModifiedBy>
  <dcterms:modified xsi:type="dcterms:W3CDTF">2022-05-23T10:05:05Z</dcterms:modified>
  <cp:revision>32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