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A460-3797-4BFB-A758-2CE3804EA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0B53-9EB4-4F69-99E5-0CC39D3B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FA305-F21B-4181-B880-9A4F7EED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652B4-0B3D-40CC-8179-5A05FF88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1E081E-8716-4E8B-B7FF-613D5F0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60FE34-6A0E-461F-A24A-2C565826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BCC76-34E0-46F5-AAAE-55668F22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111C8C-896B-4B1A-B02F-43DF856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D6CAF2-33B6-43A7-8993-2A980CA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60F3F-89AB-4CD1-8A41-D4C23942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819E7-CB9B-4E94-8BE6-AF835377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EC7EA3-5118-4487-9F40-7FEE3979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5FC7-A548-4ED4-BE04-B19FA634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9B1D32-B134-43FC-BC3B-677D6583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9A1DC2-8D94-478E-8D9B-D0694F5E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ECC50C-FA18-4F35-9B0F-F4E47554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FEEDDE-3D09-402A-A081-2FDC016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EEE093-2DD1-4789-841E-1580261B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C7E840-AD85-49B7-85E6-E3BE49EF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301651-590E-48D8-BB79-76BFFFAB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3A5BE-05CE-47DA-8911-7FFE43D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63FF75-DFB9-45A3-869F-ED41069F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366D38-A0B2-4031-90E2-D6103344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57E6-2CBD-4B12-8E2C-F3FC1F5D4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B75148-4D01-493E-B8B6-EAFBF669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A05BCF-4B40-4E75-8B48-441C87D0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BF43D-475A-4AB3-9E12-1634B2D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AC3421-8FF5-488B-878E-2C143ABB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A85115-1D1E-4AEC-82CC-F3BE8FEC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233D92-B43A-4626-94ED-3D9E8AB2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65CF4-E665-489E-9024-EC9269C6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086083-F53D-4DFD-BE8F-1F6C34A1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ED699B-D139-4BED-9F22-7C5CFD9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3EA04F-4B82-49E6-8006-2EBC71D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7665F-B19B-4FA7-BC6E-503CDD5E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B217D-E6E3-430B-AFDE-7B66BEA2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B48B7C-B664-4251-86A4-89337002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C1963B-4B97-4B69-8867-1954456E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C96807-7AC5-447E-882D-C48E87F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37515B-2F05-4555-90DC-FE41DA39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60E4EF-DD26-46E4-964C-9D13D599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AEDBD1-C487-4201-AD01-552F89B8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D6702F-6679-48CD-BB56-91471ADF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A83CDF-2DB9-47FD-B622-D1EFBA7E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FF26ED-A062-4AB2-934A-46E0BDEE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A12967-FD23-42BA-96A6-E91AD296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38BB81-FB2E-40C3-AF13-5986CD9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4AD1A8-B878-453F-9A9E-0F90DD6A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39B4C9-A940-4005-A329-96AE5B34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15FF0-28C6-4A68-9C74-4D9A9E2683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F6E78-3F11-427F-95DB-F749EC69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AE638-8CB6-47D4-823A-2AA3317C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F81E4-4738-4198-8657-5DA5B902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02928-C116-4FA3-A763-3B335186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4A901-8E2E-4CF4-BED8-7848F7C9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B5D8E-1B62-45BF-B7A6-696620C2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EDAE3-551C-497B-B7D6-86382DAA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104D1-1D67-4F0F-ACA9-4643CA1C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3F7BA-6E50-46EA-A8E3-D117450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47548-411D-4717-AB22-4DBA5599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B282A-5D63-4CE1-A488-3C5662D38B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046B-F941-4D62-951D-CF49C1F7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94F81-67EA-430C-9DA9-E0FF14D1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76413-C23F-4B42-B87F-2BB380D1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47B14-4E98-424C-BBCD-75279A2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3D635-35D0-4822-ADE6-6DF10620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A9E8C-CD3B-445F-92EB-F4FA4155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9351-D038-4411-A0C7-389F4B33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83640-9D3E-4E79-A31E-880A523A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B7C3-6551-4157-8B78-1CBD3C3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3BDD0-9D85-45AE-BD56-4DCD79D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83139-04DC-410E-9E96-F98D8E97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A1808-455A-44C0-A52E-0ED31177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A0BBE-FCF2-443D-86D0-5D9BC6DD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19ED6-53CF-47F0-8E12-EBD21196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59C4B-27C4-4D36-B82C-FCDCCD0E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9D013-7F50-41DF-AA39-4056E564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2296A-5999-4183-9ABD-EB085792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6BD8-F069-426E-82E5-2A3356A9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913C4-3177-4077-82BF-833A0BF8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E488A-3F54-4CA1-AE29-6456E047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F579E-0695-477C-8656-1911376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0D09F-F863-4DE9-90EC-FB3ED39C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3AFBB-AEDF-4968-A3D4-8B816056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208A8-7578-40B5-8FB9-061AA61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9D082-8C7B-4BAE-AE5A-1B1BA442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40FED-FFC1-4984-9569-3CCFDD74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F3A17-4E75-49C3-8479-D547D6ED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78C99-1B5A-4EF4-880E-D0F74748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09AF-DB08-4DA9-A8CF-54927D2F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4C2EE-8441-42E8-9EF2-0BB13D08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F3968-7F40-4A20-A494-AA033FE4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A9EB1-F2C5-4DFA-9D01-68967133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80135-3A70-45CB-B43E-2A2F2BF1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20A81-C076-4CBB-B6D1-03FEF29A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C0C774-FA42-49AB-BF38-4FB2EF8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EBDD6-344F-4B52-9337-BBD335F8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817E4-FE63-4F17-8204-F15CB7E0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ADEA3-1245-44AE-AC02-81C88C99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C2B80-5EBC-42D5-BDE2-7A94AFDA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0038-AEBE-4423-A0FF-FCB40679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3A255-7881-436D-91DD-91824632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B34B1-D85D-4016-A550-6A7F5394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60A24-B3B1-4C84-9890-416F2521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4B59A-A24A-46C5-ACB0-2AABD322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0A124-C6CB-4BD5-9852-3487E1E8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68C2B-7DAA-4723-834D-64B79E4D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B4BB7-DBAB-4B8F-9A83-96EB36D1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755E9-60FA-48F8-A9BB-B52223D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99A0E-D8FD-42DC-9089-578FC979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23769-2EE4-4573-B9A9-D59959EF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C508-8CAC-4174-83D7-86BF11DE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33BCF-FFB0-4882-BEE9-D1F74059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FEEDE-4867-4408-B165-E8AD9BE7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BD68D-48E4-4474-A1AC-14B1C260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F2E2C-2E39-4143-8307-D61DAC52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74FB9-F80F-41C4-8AEA-D2DC9B9E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104DE-9E52-4562-8A58-D19D3746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AA2AC-9936-498A-BACC-C31C1554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FCD01-0E9A-4774-A756-0449806A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5A90B-5209-48B2-ACD3-6578F506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1C94D-269F-4769-A48D-73AD9B7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7BF4A-B742-4582-95EC-1083015B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25EB2-C509-4E28-A3D1-82D54DE9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6F87B-45EF-4A2C-8791-08C851E7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CB669-77DF-4BA9-A837-247971E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F239D-2620-48EC-8655-9DB1FAE8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D5186-CEAA-45C9-9F69-26C07643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75E15-A5EA-4913-A344-5E0A744F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5D669-05DC-473E-9303-0EB1EE8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01124-2C1C-462D-9D0F-13488233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06296-42C5-40F1-BC0E-55F0CA2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248E91-86E4-4F0F-B6B6-C30D58F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EF31-3BF0-48EC-AD15-5AE601B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4FAFF-7978-4441-ABA5-1F1CD1DF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2C576-B3AA-4338-9C3E-4396475D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478DF9-A578-4ED7-A7FD-CD4C2D42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624A9-E50C-42C0-9CB7-E64BFD30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3A4A8-10C1-4E93-B432-A7EC4323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DEB01-25BA-4A35-B61D-4B3B76F6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493F0-79DE-45B7-8905-527EC9CA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59A22D-8F5F-4C22-BE77-39A06EFA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DDBEE6-F5EB-4506-9074-5E217DB8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D52CC-B825-4A2B-89CF-F91061ED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42DE-AF24-41B2-9F40-6A114069A33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30FD-25A3-4B61-B36D-FD4FB8238B6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AF31-8C44-4F02-AEDD-80121DE4677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C5E-6270-4846-9228-04DF71014D1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4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C16A-01CB-44C9-84A6-C2DD8086BBA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sp>
          <p:nvSpPr>
            <p:cNvPr id="43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4" name="Picture 23" descr="dd"/>
            <p:cNvPicPr/>
            <p:nvPr/>
          </p:nvPicPr>
          <p:blipFill>
            <a:blip r:embed="rId2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6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7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pic>
        <p:nvPicPr>
          <p:cNvPr id="86" name="Picture 2" descr="C:\Users\TraverR\Documents\Strategic Enablement\Interim Branding\Logos\Eskom Rotek Industries_pantone287C.png"/>
          <p:cNvPicPr/>
          <p:nvPr/>
        </p:nvPicPr>
        <p:blipFill>
          <a:blip r:embed="rId7"/>
          <a:stretch/>
        </p:blipFill>
        <p:spPr>
          <a:xfrm>
            <a:off x="5775480" y="860400"/>
            <a:ext cx="2817720" cy="878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F92C-F66C-470C-BAEB-E569DA794D1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3401-1939-4052-8299-1F34FFCF184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3718-CC06-4589-86E2-4119E22CB10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24FE-0DAB-46CB-AE38-07CFF12961E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0F2C-7FFA-4CCE-848D-47D7AA077FC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0CEA-26FF-4BCA-940E-CDD68A806AB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7" descr="topsolid"/>
          <p:cNvPicPr/>
          <p:nvPr/>
        </p:nvPicPr>
        <p:blipFill>
          <a:blip r:embed="rId2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C:\Users\TraverR\Documents\Strategic Enablement\Interim Branding\Logos\Eskom Rotek Industries_pantone287C.png"/>
          <p:cNvPicPr/>
          <p:nvPr/>
        </p:nvPicPr>
        <p:blipFill>
          <a:blip r:embed="rId3"/>
          <a:stretch/>
        </p:blipFill>
        <p:spPr>
          <a:xfrm>
            <a:off x="7596360" y="322200"/>
            <a:ext cx="1419120" cy="4428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B6D1-1EAA-4527-ACBB-EA41F6425FD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728640" y="127008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598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599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01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602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3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4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5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6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07" name="Oval 102"/>
          <p:cNvSpPr/>
          <p:nvPr/>
        </p:nvSpPr>
        <p:spPr>
          <a:xfrm>
            <a:off x="436680" y="1362240"/>
            <a:ext cx="2162160" cy="2172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08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60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12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613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4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5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6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7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8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9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0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21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6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6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33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34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63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38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63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45" name="Oval 138"/>
          <p:cNvSpPr/>
          <p:nvPr/>
        </p:nvSpPr>
        <p:spPr>
          <a:xfrm>
            <a:off x="1014480" y="4791240"/>
            <a:ext cx="1506600" cy="1519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46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647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8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9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58920" y="1881000"/>
            <a:ext cx="5545080" cy="34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N –COMPULSORY Clarification Mee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896"/>
                </a:solidFill>
                <a:latin typeface="Arial"/>
              </a:rPr>
              <a:t>Provision of Physical Security Service at Eskom Rotek Industries SOC Ltd for a period of five (5) yea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RI/2022/STR/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3058920" y="5587920"/>
            <a:ext cx="55450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Presented by: Lerisha April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2022/05/10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3241-3BA4-40B4-BC52-CC21CB712C8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TextBox 8"/>
          <p:cNvSpPr/>
          <p:nvPr/>
        </p:nvSpPr>
        <p:spPr>
          <a:xfrm>
            <a:off x="684360" y="1055520"/>
            <a:ext cx="81309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4103"/>
                </a:solidFill>
                <a:latin typeface="Arial (Headings)"/>
              </a:rPr>
              <a:t>THANK YOU!</a:t>
            </a:r>
            <a:endParaRPr b="0" lang="en-US" sz="6000" spc="-1" strike="noStrike">
              <a:solidFill>
                <a:srgbClr val="003896"/>
              </a:solidFill>
              <a:latin typeface="Arial"/>
            </a:endParaRPr>
          </a:p>
          <a:p>
            <a:pPr lvl="1" marL="450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450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68AD-7587-443C-BB2F-3A6405F7DD1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Diagram 7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8040600" cy="4889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36680" y="1052280"/>
            <a:ext cx="8378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"/>
              </a:rPr>
              <a:t>Responsiveness to tender : All compliance documents must be valid (BBBEE; COID; TAX CLEARANCE or PIN; CSD REPORT current).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"/>
              </a:rPr>
              <a:t>Pre- Qualification criteria will be applicable </a:t>
            </a: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– Only tenderers that have a B-BBEE recognition status of Level 1 to 2 will be considered; and undertaking to sub-contract at least 30% of the contract amount to the following category of suppliers: • an EME which is at least 51% owned by black people living in rural or underdeveloped areas or townships.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874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Quotes must be valid for 120 days.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874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Tender Submission – 1 Original and 1 hard copy. “No electronic copies will be accepted”, Tender Name and Tender number clearly marked on the envelope of the tender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874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Must be hand delivered and placed into the tenderbox at: Eskom Rotek Industries SOC Ltd, Tender Box at Unit 5, Heritage Office Park, Hunslet Road, Rosherville, Johannesburg 2001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874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Annexure C Declaration of Interest / </a:t>
            </a:r>
            <a:r>
              <a:rPr b="0" lang="en-GB" sz="1500" spc="-1" strike="noStrike">
                <a:solidFill>
                  <a:srgbClr val="003896"/>
                </a:solidFill>
                <a:latin typeface="Arial"/>
              </a:rPr>
              <a:t>Integrity Declaration &amp; Bidders Disclosure marked as SBD4- </a:t>
            </a: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 Must be signed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874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Closing date and time : 23 May 2022@ 10h00am – Late submission will not be accepted.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F55F-813B-4A3A-8418-97F5242BDE1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Continu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"/>
              </a:rPr>
              <a:t>Functionality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Page 7 of 48 invitation to tender: Phase One – Technical Capability (100) with a threshold of 70%. Tenderers that does not achieve the 70% threshold will not be considered for further evaluation – Phase Two – Site Inspection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"/>
              </a:rPr>
              <a:t>Mandatory returnables for evaluation and Mandatory returnables for contract award :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Is listed from page 11 of 48 under point 1.3 of the tender document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"/>
              </a:rPr>
              <a:t>Price and preference :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90/10: 90 for price and 10 for BBBEE.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"/>
              </a:rPr>
              <a:t>Objective Criteria :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S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QUALITY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Finance </a:t>
            </a: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SD&amp;L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D2D8-9CDB-44FD-A418-C4877B95F92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"/>
              </a:rPr>
              <a:t>The bids proposal will be evaluated in line with the following Functionality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Phase One – Functionality . Technical capability (100 points)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***Threshold of 70 points is applicable on phase one of the evaluation criteria, tenderers / bidders not achieving the 70-point threshold will not be considered for further evaluation***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Phase Two – Site Inspection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"/>
              </a:rPr>
              <a:t>*** Should any of the requirements not be met then the supplier will not be considered for contract award ***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ff0000"/>
                </a:solidFill>
                <a:latin typeface="Arial"/>
              </a:rPr>
              <a:t>Representative: </a:t>
            </a:r>
            <a:r>
              <a:rPr b="0" i="1" lang="en-ZA" sz="1400" spc="-1" strike="noStrike">
                <a:solidFill>
                  <a:srgbClr val="ff0000"/>
                </a:solidFill>
                <a:latin typeface="Arial"/>
              </a:rPr>
              <a:t>Gcinithemba Diko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ff0000"/>
                </a:solidFill>
                <a:latin typeface="Arial"/>
              </a:rPr>
              <a:t>Designation: </a:t>
            </a:r>
            <a:r>
              <a:rPr b="0" i="1" lang="en-ZA" sz="1400" spc="-1" strike="noStrike">
                <a:solidFill>
                  <a:srgbClr val="ff0000"/>
                </a:solidFill>
                <a:latin typeface="Arial"/>
              </a:rPr>
              <a:t>Security Manager Acting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910-EB47-469A-8C04-74DBCD5B07D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5F2A-BA03-4877-A93F-E919AA9DBDE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TextBox 8"/>
          <p:cNvSpPr/>
          <p:nvPr/>
        </p:nvSpPr>
        <p:spPr>
          <a:xfrm>
            <a:off x="684360" y="1055520"/>
            <a:ext cx="81309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500" spc="-1" strike="noStrike">
                <a:solidFill>
                  <a:srgbClr val="003896"/>
                </a:solidFill>
                <a:latin typeface="Arial"/>
                <a:ea typeface="Arial"/>
              </a:rPr>
              <a:t>Annexure B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3896"/>
                </a:solidFill>
                <a:latin typeface="Arial"/>
                <a:ea typeface="Arial"/>
              </a:rPr>
              <a:t>Is the acknowledgement of Eskom's OHS legal and other requirements form signed and submitted by the tenderer.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896"/>
                </a:solidFill>
                <a:latin typeface="Arial"/>
                <a:ea typeface="Arial"/>
              </a:rPr>
              <a:t>Annexure C1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3896"/>
                </a:solidFill>
                <a:latin typeface="Arial"/>
                <a:ea typeface="Arial"/>
              </a:rPr>
              <a:t>OHS Tender Evaluation Template (High risk)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896"/>
                </a:solidFill>
                <a:latin typeface="Arial"/>
                <a:ea typeface="Arial"/>
              </a:rPr>
              <a:t>Contract and Contractor OHS management 32-726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500" spc="-1" strike="noStrike">
                <a:solidFill>
                  <a:srgbClr val="003896"/>
                </a:solidFill>
                <a:latin typeface="Arial"/>
                <a:ea typeface="Arial"/>
              </a:rPr>
              <a:t>Valid Letter of Good Standing </a:t>
            </a:r>
            <a:r>
              <a:rPr b="0" lang="en-ZA" sz="1500" spc="-1" strike="noStrike">
                <a:solidFill>
                  <a:srgbClr val="003896"/>
                </a:solidFill>
                <a:latin typeface="Arial"/>
                <a:ea typeface="Arial"/>
              </a:rPr>
              <a:t>(COIDA or equivalent)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ff0000"/>
                </a:solidFill>
                <a:latin typeface="Arial"/>
              </a:rPr>
              <a:t>Representative: </a:t>
            </a:r>
            <a:r>
              <a:rPr b="0" i="1" lang="en-ZA" sz="1400" spc="-1" strike="noStrike">
                <a:solidFill>
                  <a:srgbClr val="ff0000"/>
                </a:solidFill>
                <a:latin typeface="Arial"/>
              </a:rPr>
              <a:t>Nankuse Nkomo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400" spc="-1" strike="noStrike">
                <a:solidFill>
                  <a:srgbClr val="ff0000"/>
                </a:solidFill>
                <a:latin typeface="Arial"/>
              </a:rPr>
              <a:t>Designation: </a:t>
            </a:r>
            <a:r>
              <a:rPr b="0" i="1" lang="en-ZA" sz="1400" spc="-1" strike="noStrike">
                <a:solidFill>
                  <a:srgbClr val="ff0000"/>
                </a:solidFill>
                <a:latin typeface="Arial"/>
              </a:rPr>
              <a:t>Health, Safety, Environment Officer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6496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5873760" y="2657520"/>
            <a:ext cx="914400" cy="77148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3240000" y="2057400"/>
            <a:ext cx="914400" cy="58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9A21-4DFE-4EB0-AC92-B6BAA32CC9C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TextBox 8"/>
          <p:cNvSpPr/>
          <p:nvPr/>
        </p:nvSpPr>
        <p:spPr>
          <a:xfrm>
            <a:off x="684360" y="1055520"/>
            <a:ext cx="813096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"/>
              </a:rPr>
              <a:t>The following documentation is applicable to Quality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896"/>
                </a:solidFill>
                <a:latin typeface="Arial"/>
                <a:ea typeface="Arial"/>
              </a:rPr>
              <a:t>Category 3: </a:t>
            </a:r>
            <a:r>
              <a:rPr b="0" lang="en-US" sz="1500" spc="-1" strike="noStrike">
                <a:solidFill>
                  <a:srgbClr val="003896"/>
                </a:solidFill>
                <a:latin typeface="Arial"/>
                <a:ea typeface="Arial"/>
              </a:rPr>
              <a:t>Quality requirements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896"/>
                </a:solidFill>
                <a:latin typeface="Arial (Headings)"/>
              </a:rPr>
              <a:t>Form A </a:t>
            </a:r>
            <a:r>
              <a:rPr b="0" lang="en-US" sz="1500" spc="-1" strike="noStrike">
                <a:solidFill>
                  <a:srgbClr val="003896"/>
                </a:solidFill>
                <a:latin typeface="Arial (Headings)"/>
              </a:rPr>
              <a:t>- Tender &amp; contract quality requirements for 240-105658000 and ISO 9001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 (Headings)"/>
              </a:rPr>
              <a:t> </a:t>
            </a:r>
            <a:r>
              <a:rPr b="0" lang="en-US" sz="1500" spc="-1" strike="noStrike">
                <a:solidFill>
                  <a:srgbClr val="003896"/>
                </a:solidFill>
                <a:latin typeface="Arial (Headings)"/>
              </a:rPr>
              <a:t>Standard, Contract Quality Plan and procedure 240-106082683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 (Headings)"/>
              </a:rPr>
              <a:t>Typical Contract requirements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 (Headings)"/>
              </a:rPr>
              <a:t>Form A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500" spc="-1" strike="noStrike">
                <a:solidFill>
                  <a:srgbClr val="ff0000"/>
                </a:solidFill>
                <a:latin typeface="Arial (Headings)"/>
              </a:rPr>
              <a:t>Representative: </a:t>
            </a:r>
            <a:r>
              <a:rPr b="0" i="1" lang="en-ZA" sz="1500" spc="-1" strike="noStrike">
                <a:solidFill>
                  <a:srgbClr val="ff0000"/>
                </a:solidFill>
                <a:latin typeface="Arial (Headings)"/>
              </a:rPr>
              <a:t>Susan Pretorius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500" spc="-1" strike="noStrike">
                <a:solidFill>
                  <a:srgbClr val="ff0000"/>
                </a:solidFill>
                <a:latin typeface="Arial (Headings)"/>
              </a:rPr>
              <a:t>Designation: </a:t>
            </a:r>
            <a:r>
              <a:rPr b="0" i="1" lang="en-ZA" sz="1500" spc="-1" strike="noStrike">
                <a:solidFill>
                  <a:srgbClr val="ff0000"/>
                </a:solidFill>
                <a:latin typeface="Arial (Headings)"/>
              </a:rPr>
              <a:t>Quality Management Officer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DD4-CA36-4E59-ABD2-E558910BA40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684360" y="1055520"/>
            <a:ext cx="813096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896"/>
                </a:solidFill>
                <a:latin typeface="Arial (Headings)"/>
              </a:rPr>
              <a:t>Finance –”Signed Audited Financial Statements of the tenderer for the previous 24 months , or to the extent that such statements are not available, signed independently reviewed annual financial statements will be accepted.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500" spc="-1" strike="noStrike">
                <a:solidFill>
                  <a:srgbClr val="ff0000"/>
                </a:solidFill>
                <a:latin typeface="Arial (Headings)"/>
              </a:rPr>
              <a:t>Representative: </a:t>
            </a:r>
            <a:r>
              <a:rPr b="0" i="1" lang="en-ZA" sz="1500" spc="-1" strike="noStrike">
                <a:solidFill>
                  <a:srgbClr val="ff0000"/>
                </a:solidFill>
                <a:latin typeface="Arial (Headings)"/>
              </a:rPr>
              <a:t>Dipak Mistri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1500" spc="-1" strike="noStrike">
                <a:solidFill>
                  <a:srgbClr val="ff0000"/>
                </a:solidFill>
                <a:latin typeface="Arial (Headings)"/>
              </a:rPr>
              <a:t>Designation: </a:t>
            </a:r>
            <a:r>
              <a:rPr b="0" i="1" lang="en-ZA" sz="1500" spc="-1" strike="noStrike">
                <a:solidFill>
                  <a:srgbClr val="ff0000"/>
                </a:solidFill>
                <a:latin typeface="Arial (Headings)"/>
              </a:rPr>
              <a:t>Accountant Management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s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5/10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D758-ECB8-4F0C-934F-88ACF2A39BC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TextBox 8"/>
          <p:cNvSpPr/>
          <p:nvPr/>
        </p:nvSpPr>
        <p:spPr>
          <a:xfrm>
            <a:off x="684360" y="1055520"/>
            <a:ext cx="813096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db4103"/>
                </a:solidFill>
                <a:latin typeface="Arial (Headings)"/>
              </a:rPr>
              <a:t>Contractual Requirements may include the following: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3896"/>
                </a:solidFill>
                <a:latin typeface="Arial (Headings)"/>
              </a:rPr>
              <a:t>SHEQ requirements; and/or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3896"/>
                </a:solidFill>
                <a:latin typeface="Arial (Headings)"/>
              </a:rPr>
              <a:t> </a:t>
            </a:r>
            <a:r>
              <a:rPr b="0" lang="en-ZA" sz="1500" spc="-1" strike="noStrike">
                <a:solidFill>
                  <a:srgbClr val="003896"/>
                </a:solidFill>
                <a:latin typeface="Arial (Headings)"/>
              </a:rPr>
              <a:t>Financial statements; and/or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3896"/>
                </a:solidFill>
                <a:latin typeface="Arial (Headings)"/>
              </a:rPr>
              <a:t> </a:t>
            </a:r>
            <a:r>
              <a:rPr b="0" lang="en-ZA" sz="1500" spc="-1" strike="noStrike">
                <a:solidFill>
                  <a:srgbClr val="003896"/>
                </a:solidFill>
                <a:latin typeface="Arial (Headings)"/>
              </a:rPr>
              <a:t>Legal compliance (Tax clearance, B-BBEE certificate, COIDA)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8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3896"/>
                </a:solidFill>
                <a:latin typeface="Arial (Headings)"/>
              </a:rPr>
              <a:t> </a:t>
            </a:r>
            <a:r>
              <a:rPr b="0" lang="en-ZA" sz="1500" spc="-1" strike="noStrike">
                <a:solidFill>
                  <a:srgbClr val="003896"/>
                </a:solidFill>
                <a:latin typeface="Arial (Headings)"/>
              </a:rPr>
              <a:t>Satisfies ERI’s vendor registration minimum requirements. 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500" spc="-1" strike="noStrike">
                <a:solidFill>
                  <a:srgbClr val="003896"/>
                </a:solidFill>
                <a:latin typeface="Arial (Headings)"/>
              </a:rPr>
              <a:t>NEC3 Term Service Contract will be applicable – Draft contract attached to the invitation to tender. Tenderer to review and accept term and conditions as well as complete Contract Data on page 14 0f 31</a:t>
            </a: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Lerisha April</cp:lastModifiedBy>
  <dcterms:modified xsi:type="dcterms:W3CDTF">2022-05-10T08:45:40Z</dcterms:modified>
  <cp:revision>309</cp:revision>
  <dc:subject/>
  <dc:title>Slide 1</dc:title>
</cp:coreProperties>
</file>